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9B77-5378-4DAF-8B7A-D6AE8AC46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1926-54CA-47C9-B4C1-8E572AFAB7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0072D-C50F-4368-BF72-DEBD5B6FCFD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BE6E9-44E4-4C28-BE60-153F63A229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AB361-1C99-4EA2-B0AC-55B2A1900F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E5C2D-8A80-43B7-86BA-C365D64898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1CAF5-C94C-41A4-BA53-519C8B8ADCE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D651D-7DC5-42C8-BDD3-D41E4DBD05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5E2EE-96AC-4768-92E7-02F271F983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A1890-ECCF-412E-85C0-416CAD896E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DC83C-6078-4C19-A50E-FB3E02980F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1C4A-3096-4B84-803F-6B47D7AA9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4F6D-C3FC-466E-A948-AEE50B25219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8694-1096-4ED0-990C-98161F288BB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BEE0-3B67-438C-9047-EFC64520FB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19AF-D6CA-4EE3-B887-7EECF511B9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4844-8F7F-4057-A469-42B535DF0B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D8E9-D364-486D-A606-7A7062C0A63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34098-DF57-4C9E-86A6-BC75D531B1F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E2C1-9176-4927-9501-FA071FE54B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4886-5EDC-4ED5-9460-E3062BF618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959C-947B-455A-B9E0-E98FE10CAF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AB44-EC1B-4215-B9A0-344D65E71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09D1-A554-4F3A-9E4D-31BD95CEA25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7695-E4FE-4E12-852E-0320F60624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8A1EB-CF8F-4A91-A020-2CCBEAA65EB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5577F-A9BF-4BE5-AF2F-C07700F2B74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0E735-34AB-40D0-9327-9206BC547D7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08BA1-2824-4C2A-8A27-F93C536FA55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4F0D0-1DE4-40F5-B97F-47FFE97CFF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B1276-C954-44FB-BA86-73572F2E40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8EABC-2002-4408-BB1F-12C81367D10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EAB7C-4AF8-4827-BEC1-B3C41C23BC4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77068-EB25-4410-8F31-E3EDC1346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65DDA-F930-42BA-8217-AA3636A591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00FC9-4C75-4E53-99D8-AD9A252D6A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D0DB6-AC3E-437E-8699-7823BEF963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75AC5-88DB-4B71-966F-6325FA662C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F5C66-6AEC-4989-AE0C-5363405B98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8E627C-DEFD-4762-A51B-2C5601AC67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E07F6-66D1-4EFA-AC43-2C9217EB792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C3F8C-C496-4AA6-AE00-C74EDA89B4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6657F-5A96-4BF7-B3FF-85CD677170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FA03A-A711-4E36-A795-B61E6A9801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D4689-FD4A-49E6-B0C1-0EBE240AB7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8850D-386C-4F6B-B1ED-82DD816B70F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395EE-2BC5-4030-B87F-AE48456C41A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A8C23-F0D7-4FEB-9006-A8218F76F18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2F806-B326-4714-8683-6BC01C83A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BD83-6FC6-4AB1-ACC1-AF6C35DF5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0917-5046-4442-9A1A-44C10689DB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D547-40B6-4414-B990-8BE28F4F97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0D28-C575-4FDA-9B17-D5A12590B8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B660-7620-4E46-8E10-C7C22FDAAF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86396-CC3E-4E8B-BCAD-335AB9B373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8B6A-5BC8-485F-90E5-D3624359E6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347D-241B-4214-8380-CE1C68E7CA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D154-42FE-4BCD-972C-80234F716C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5159-6B3E-4665-8EDF-A1A2568163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2A14-79F6-4814-91AB-F9BD7083D1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9404-F5B1-457E-AF1C-B2184DF2FE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92A3-CE08-4BF6-9DE3-D698271345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8A0E-7CCD-47EB-840A-EB7D519FAF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9A5-85F9-4613-8E10-C45BCA4A96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882-1317-4638-87AB-A7A6B75685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11F-B56B-4C54-B0D0-C5E3EF2CF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0DB-56B4-43C9-BCF7-1B07079909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AEA-461D-4E72-BE16-F12D9C8EAA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582-597C-4CD9-BC9A-9BCCF256C9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0C7-7978-41E1-9B14-0BB62D905E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5A0-DB3B-4ECC-8CA7-CBA1C210FD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B4C-E9FF-419C-B215-46A648B9F1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E2C-2815-49DC-942F-DA98C622E6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2D3-CE09-419D-8EE3-52E38C858B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DDE-987E-45C3-B788-F17E5531EA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3CA-6339-453D-98FC-8F0048BA64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85A74-3D1D-4CD7-AAFF-F25319943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1D80-7B0B-4605-AB6E-567FBA83BF1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F5A4C-CC10-4F4D-A28B-FDC5112364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1CEBB-FAA2-4581-97FD-0FFA045BA99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19B3D-CF7C-4E95-8F25-272BB06EE8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4996D-00FF-48C8-9996-B05DB0C0D6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C79A-5B80-492E-AD03-FF975C37A4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CEB78-FBC0-4531-986F-2ED0865272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21EEB-924C-40E9-9563-91DBC2C4AA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C201D-E1F8-4AC9-BA4E-F0E3E5EF5A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4A9D2-D86A-4C45-9CEA-8BD79EE567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5F0FF-4C02-4D16-9A9D-DEA996E23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2DE1-8ED3-46A9-B849-EA1B3AFF452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481E9-ED20-413B-B61F-15948455A1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9B27E-46B7-4759-9547-6AD07E1022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FA282-3D3B-4C0F-9957-02605440BBD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FD40C-7D8B-4E64-966D-7C30C87AFC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E0E50-6037-49B9-91DA-6D7EE2CB2C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7BF07-C9EF-4914-9017-F719D01482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18CD2-B322-474E-AE5E-05A8403478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0D684-4A89-42D9-AAF3-8C6C25F630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D39F-FB78-44EA-854E-D016D2450E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E2E5B-22A3-4E7C-A297-1CA5AE53D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9A6C-7D94-4928-ABA3-60BFEF8782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D89C-2FF4-4344-B14E-626C2971C6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7174D-E281-4C40-87CF-A16327B1921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4F72F-4CE2-4027-84E7-8217320B64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7D29-C16B-4D97-A38C-73A1464BC0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C82F-B77D-4428-AB5D-0DB82EFD00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11F2-885E-4718-8EE5-7DB94DC7C9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2754-A0DD-407F-BC64-81F913C7E96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7434-EAA5-4625-8804-57E0088881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1606-7C08-491F-B863-86B7F87EA4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F30-9BAB-44D6-934C-076B26CB8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EB18-07A5-4BB3-8E2E-CCB4018D95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855-2707-4F2B-ABB5-428EDC014A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7A8E-769C-4ECA-A125-657F7DCCB1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0D30-E059-4F82-A435-32AF81C24CD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A77F-50A3-4E02-BCAE-29EA77E6842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D10B-3B75-4D77-A317-92AEF358A3B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BEDCE-278C-4646-A071-F618894FCC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1050A-5F97-428E-934C-BECDAFF972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40015-B627-4A95-8EA9-9D04D6EF8BA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AD4A0-8AEA-42EB-BBA2-A627A97BD95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F2195-B736-445C-BD8E-A73D78E6E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A45C-FF64-4A2A-A077-96609434BF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18920" y="183960"/>
            <a:ext cx="636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AEAA3-FF8E-444B-A5CB-3DF64413D3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52ADC-217D-4A58-924D-EE2753C04B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4ADA5-B5B8-45BC-A431-F9A4131018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05FB6-C977-4CB5-82B5-A55A6312C2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718920" y="380232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13B42-F911-4642-B5B9-058D42C38EF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2949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1892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40480" y="380232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FDE8E-04DA-440A-8273-E52BF16D9E6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7248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6040" y="12949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71892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7248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6040" y="380232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19B73-8E35-41E9-BBC8-1D1166BF6D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64884-7591-497C-A8E5-A6F5BBBA53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59786-4B92-4775-84DB-A8445630AF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458F6-8221-41E3-8F0A-93585B446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13480" y="6407280"/>
            <a:ext cx="22096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4D5D-9DD7-4D40-811A-6E4126F47BA9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5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398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9"/>
          </p:nvPr>
        </p:nvSpPr>
        <p:spPr>
          <a:xfrm>
            <a:off x="6513480" y="645336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5F1-5FD9-4C92-AF46-BFB12ED84258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442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10"/>
          </p:nvPr>
        </p:nvSpPr>
        <p:spPr>
          <a:xfrm>
            <a:off x="6513480" y="645336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D3F2-7AF7-48DA-A279-05600DB0D380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486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1"/>
          </p:nvPr>
        </p:nvSpPr>
        <p:spPr>
          <a:xfrm>
            <a:off x="6513480" y="645336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B232-439B-4BFD-8351-FD1444DEB750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2" descr="_x000c_コーポa1.jpg                                                   0001394F_x0004_HD60                           C28A1E02: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3"/>
          <a:stretch/>
        </p:blipFill>
        <p:spPr>
          <a:xfrm>
            <a:off x="755640" y="581040"/>
            <a:ext cx="1368360" cy="687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88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B95E-8F5C-4F27-866D-F8674A576253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132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3"/>
          </p:nvPr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9FF-352D-4662-93F5-8819E918F4CA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176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6513480" y="645336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EFF9-3691-4815-BC1B-9B9BED0A767A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220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5"/>
          </p:nvPr>
        </p:nvSpPr>
        <p:spPr>
          <a:xfrm>
            <a:off x="6513480" y="645336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9A4-308D-45C7-916E-09F2E44FC331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264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6"/>
          </p:nvPr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2702-520F-4EF4-B539-B41E6870794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308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正方形/長方形 12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図 8" descr=""/>
          <p:cNvPicPr/>
          <p:nvPr/>
        </p:nvPicPr>
        <p:blipFill>
          <a:blip r:embed="rId6"/>
          <a:stretch/>
        </p:blipFill>
        <p:spPr>
          <a:xfrm>
            <a:off x="3324240" y="3141720"/>
            <a:ext cx="2424240" cy="1244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2451-7420-466A-AB41-C6029EC6B39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2" descr="&#9;ca和2.jpg                                                      0001394F_x0004_HD60                           C28A1E02:"/>
          <p:cNvPicPr/>
          <p:nvPr/>
        </p:nvPicPr>
        <p:blipFill>
          <a:blip r:embed="rId2"/>
          <a:srcRect l="0" t="-493" r="0" b="85307"/>
          <a:stretch/>
        </p:blipFill>
        <p:spPr>
          <a:xfrm>
            <a:off x="-1440" y="-27000"/>
            <a:ext cx="9145440" cy="822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" descr=""/>
          <p:cNvPicPr/>
          <p:nvPr/>
        </p:nvPicPr>
        <p:blipFill>
          <a:blip r:embed="rId3"/>
          <a:srcRect l="0" t="0" r="0" b="46396"/>
          <a:stretch/>
        </p:blipFill>
        <p:spPr>
          <a:xfrm>
            <a:off x="0" y="6426360"/>
            <a:ext cx="2451240" cy="271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6" descr=""/>
          <p:cNvPicPr/>
          <p:nvPr/>
        </p:nvPicPr>
        <p:blipFill>
          <a:blip r:embed="rId4"/>
          <a:stretch/>
        </p:blipFill>
        <p:spPr>
          <a:xfrm>
            <a:off x="3219480" y="653400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5"/>
          <a:stretch/>
        </p:blipFill>
        <p:spPr>
          <a:xfrm>
            <a:off x="7380360" y="222120"/>
            <a:ext cx="1241280" cy="432000"/>
          </a:xfrm>
          <a:prstGeom prst="rect">
            <a:avLst/>
          </a:prstGeom>
          <a:ln w="0">
            <a:noFill/>
          </a:ln>
        </p:spPr>
      </p:pic>
      <p:sp>
        <p:nvSpPr>
          <p:cNvPr id="354" name="直線コネクタ 13"/>
          <p:cNvSpPr/>
          <p:nvPr/>
        </p:nvSpPr>
        <p:spPr>
          <a:xfrm>
            <a:off x="719280" y="6326280"/>
            <a:ext cx="7902360" cy="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8920" y="183960"/>
            <a:ext cx="636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1892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8"/>
          </p:nvPr>
        </p:nvSpPr>
        <p:spPr>
          <a:xfrm>
            <a:off x="6513480" y="632304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Univers 65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D20-176C-4125-984D-7374A59756E7}" type="slidenum">
              <a:rPr b="0" lang="en-US" sz="1500" spc="-1" strike="noStrike">
                <a:solidFill>
                  <a:srgbClr val="000000"/>
                </a:solidFill>
                <a:latin typeface="Univers 65 Bold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03280" y="2148840"/>
            <a:ext cx="77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95280" y="3392280"/>
            <a:ext cx="5040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95280" y="3922560"/>
            <a:ext cx="5040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995280" y="4437000"/>
            <a:ext cx="5040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995280" y="4941720"/>
            <a:ext cx="5040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スライド番号プレースホルダー 1"/>
          <p:cNvSpPr/>
          <p:nvPr/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479-0BEA-42C8-B9C0-0BA5368ACCA6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58920" y="2624040"/>
            <a:ext cx="6950160" cy="1479600"/>
          </a:xfrm>
          <a:prstGeom prst="rect">
            <a:avLst/>
          </a:prstGeom>
          <a:solidFill>
            <a:srgbClr val="03278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755640" y="1015920"/>
            <a:ext cx="669600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6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54200" y="1484280"/>
            <a:ext cx="7950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5" name="スライド番号プレースホルダー 3"/>
          <p:cNvSpPr/>
          <p:nvPr/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EEE-2CB8-401F-815A-1C9A16AD91C0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718920" y="15876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2200" y="1916280"/>
            <a:ext cx="77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8" name="スライド番号プレースホルダー 1"/>
          <p:cNvSpPr/>
          <p:nvPr/>
        </p:nvSpPr>
        <p:spPr>
          <a:xfrm>
            <a:off x="6513480" y="6443640"/>
            <a:ext cx="2209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31DF-BCDA-42C6-9CFC-BF79687F0573}" type="slidenum">
              <a:rPr b="0" lang="en-US" sz="1500" spc="-1" strike="noStrike">
                <a:solidFill>
                  <a:srgbClr val="000000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25:54Z</dcterms:created>
  <dc:creator/>
  <dc:description/>
  <dc:language>en-US</dc:language>
  <cp:lastModifiedBy/>
  <cp:lastPrinted>2007-05-18T01:58:30Z</cp:lastPrinted>
  <dcterms:modified xsi:type="dcterms:W3CDTF">2018-02-01T00:49:17Z</dcterms:modified>
  <cp:revision>67</cp:revision>
  <dc:subject/>
  <dc:title>PowerPoint プレゼンテーション</dc:title>
</cp:coreProperties>
</file>