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15EA-C810-41DD-9098-F65690507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DE273-2EC4-440B-8502-88FB157AAE7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D2C0B-F6D5-4322-9489-4B50F3B84E4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98F36-9AD0-4235-A021-2A8B8217CE2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31720" y="256680"/>
            <a:ext cx="701064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D740A-B4AE-4D65-B7E0-CC4394A26F8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77803-D980-4616-8CAF-BCD98385FDC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849E1-9535-45EC-90E1-990FF24D090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91C57-F191-4543-9E87-A84AF348307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DD0A3-261B-4745-B561-357D5A00A73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48761-9E92-4179-8D12-246B3C7CDFC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8896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6880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0948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8896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6880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9A8B3-F427-4E8C-8560-3E8AD9E73A0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9CB48-A633-424F-B77D-787C8CD0C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30FCD-5452-4656-8980-B9CE5913C2D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38A99-9DD5-4442-8094-D0D51C96751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C256E-1338-4907-9648-44DD17ACEA9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852E7-9828-46E0-AA21-DBB5654B84F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D9A18-D27D-403E-91EE-52B50263F43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531720" y="256680"/>
            <a:ext cx="701064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6CF17-3FC5-41E5-9254-7130B34FC1E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D5C66-2C8F-44A0-BA1F-5949929979D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4041D-597B-4583-BC8F-EDE5C5146C6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1C190-75BE-49C9-B4B3-6C24A4F9F13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58243-C5D3-4E55-9122-D8D5D2EBD83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BB737-8140-4F66-8243-F9656A930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896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880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896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880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9939-E6C9-4523-93F1-F10590DA627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8896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6880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0948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8896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6880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5CCB9-EACE-4EB5-BD83-AF5FD1FD896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6AABFD-F180-4D49-97FB-0A1F1414E97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355C95-BD7D-4A70-BE3C-C1536FCF8A2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796824-D473-4E68-A97D-1263D1A96DF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245508-052F-4E78-8759-62F91F30DB4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3A8403-2E94-4343-AECF-38E34438D43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531720" y="256680"/>
            <a:ext cx="701064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68EACA-29B2-4FF8-932D-32D9D8FC260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520F35-DEDC-42CE-9989-E0BBC10655D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0F6067-81BF-446C-8CE7-24EC6C07363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D69F42-BED3-4258-93B8-709E9B416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A16863-D810-44B1-9709-CFF9E52D956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8D353-78F4-4AA1-A557-9006F4733BD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896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6880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0948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896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6880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0D191E-089A-4866-9756-002AB345F9B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94C32E-FF16-444E-9E42-EDAE8C80632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0C142E-5AFC-4382-ACC5-79C752AFED3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29FFE-2821-4BA5-B187-496E74CCB11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4E465E-CEAD-4141-8008-F23FC8FC26B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65333C-30ED-46E7-9E2F-4AFD2AF6A56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531720" y="256680"/>
            <a:ext cx="701064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061C63-99DF-4E3F-85E6-A224D480547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EE6D8-2A7B-4F5A-81F3-484316ECF9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451568-C733-4A1E-8C16-834E903267E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676AA5-C800-4076-83ED-7B8B78CC7E4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C5C807-5A02-46D0-8E4C-383D968ED27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23FF5C-D0A3-4EB9-9B05-C41A5C5069F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8896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6880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0948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8896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6880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04558F-04ED-476D-B956-DF06DD0EB3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1720" y="256680"/>
            <a:ext cx="701064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4506-7AF1-45F6-803B-D2DBFA528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896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880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896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880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ED253-1B55-4D9C-B767-44FE0FFF33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3AA9-74BF-418E-BA9D-9F02EA428D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209E0-EF79-449C-B972-7A0624AE21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C4FFE-5E51-4986-8DFA-51C2914B87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09AA7-B88D-4F4F-90F6-D45387E1E6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991D-E378-4EFF-A952-1D14B9AB6D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1720" y="256680"/>
            <a:ext cx="701064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4C931-9E99-45DE-A478-41989A238C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A31FC-1869-4117-B54B-85C5B96C47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E93E3-4C21-4658-A492-EA136BA7E0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6FF15-2FF8-45AC-9FDF-004D66A4C7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8BDC7-F3EE-43C4-A7E9-F1A66327B3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48A4A-B570-49A4-BE8E-D5FCFEDEC7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8896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880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8896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880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9B18A-4515-4AF5-AB71-98B4D46E7C5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A7D-1DB8-42A2-9B86-6288EC61C0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28C-67BC-4B0F-B369-614C785E07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95A-06F1-45F0-832E-53FCC9D6E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060E8-674F-43E3-955C-2EC7473199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AB2-4B24-48CB-A66A-A4A17F0F47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4F6-ABD3-411A-829F-CB3561B5E8F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1720" y="256680"/>
            <a:ext cx="701064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4BDD-79F5-4F49-BD34-4EA4120AD9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DBB3-C477-436C-8084-01ADA4715C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6AC7-FE08-4D8A-8D4C-02D87F189D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89A5-1D58-4226-B749-AF411754AF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845-0221-4356-8531-C3FD2A78755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36D-A5E5-4F59-9A84-1544F9AA83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8896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6880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0948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8896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6880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16F-1597-4D55-B794-621765192D9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46F18-C246-4CD7-A175-50B47D542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1831-44ED-4DF1-B02C-3A3A8E80BBA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0E479-EC8A-4C07-AE59-E47EABDCC2F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3273A-0C68-431E-A582-8C78240C44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A0084-0BBC-4BAC-A635-06021615582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FFFF3-9A3A-4EB4-AEA0-993B0E3B32C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31720" y="256680"/>
            <a:ext cx="701064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CCC3F-A4F9-48A5-8F40-B335C4A9E2C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57742-5911-4D5B-96BC-CF842DD34D4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84623-9D5A-437B-8777-85769A34FC0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911CC-2BF9-4406-BF8A-FCE8257F8D9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24C4A-C0C6-414D-9D1D-14497F356DF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BEF4F-1633-4AFA-8891-1A4538753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1720" y="256680"/>
            <a:ext cx="701064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4165-0E46-45C5-BADD-84569872CC0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8896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6880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0948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8896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6880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CE6E3-1C13-4C8B-97C0-0F4B9C13740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846E6-5E84-48D4-A6BA-E7B76A45AC3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03948-FD17-465C-979E-BFBA93CA9CB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9886D-62C9-446C-8C63-C7A028495D7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065B2-823B-4C8B-B037-764DE2EF2E1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5C9F4-0643-4CB4-88C4-03E23106628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1720" y="256680"/>
            <a:ext cx="701064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940B9-AEAE-4D03-BDCA-34DDC98187D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58287-CFEC-482F-8F0B-E47578EA59E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4256D-847B-4F43-BFC0-BA52727637D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D164D-7049-4B09-A79B-E0761DED3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4B73-CEEC-46ED-9A75-957707601F6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6443D-E04E-4125-BBC5-6E633654643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CAE0A-1E57-40E4-AD00-8D28EDAC020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896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6880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0948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896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6880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22D57-F602-49CF-B687-957E99E5AF7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350E-7227-4A62-B8C0-6352DE88B81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74A7-554C-4E34-973C-80556269ECA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EC79-A346-4565-A842-A08143EFFA5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84D4-2D33-4479-A195-5F80A715B5E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DDC3-C32F-41A2-8F7A-8024CE40349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31720" y="256680"/>
            <a:ext cx="701064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BB56-DD56-42A0-8400-5E6628676C4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62AF-B902-4DF6-9957-4C694D174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3D4E-65E1-4926-AFC9-374662E99A2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CC74-8B70-4E7E-BE04-DC0D9779298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FB60-4BCD-4BAC-943C-27529DC8675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4856-EE9D-45E1-8EEA-E8BF2CBF9DD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6EEE-2DAD-4764-9C14-67492130ABD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8896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6880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48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8896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6880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DD6B-B19D-4DB2-AEC8-F7E8AB81470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C655EF-B3E2-45F7-B08A-13F156B0E78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32D129-FED4-44FE-A753-366C0B1314A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19E18E-F373-4981-9013-6EA83B5728D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7D9D31-BD98-4DE4-9717-086E41A913B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D3619A-1FE7-4B1D-9E37-C98C20596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101A-44C5-4B8E-964D-3652FFD3461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531720" y="256680"/>
            <a:ext cx="701064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929414-436C-4E74-A008-76253F46721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AD493A-01F4-4984-AC33-4C2CA305863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7AC121-5BBD-482A-A4D9-4AD6465CFBB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193CFD-CCE6-490F-9078-86C56C9FBC9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751560"/>
            <a:ext cx="7925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4175E6-594A-4AB7-8F83-BEFAA6301B6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32372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0280" y="3751560"/>
            <a:ext cx="3867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0345BA-6E84-459C-8B88-41BEA5561CC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8896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68800" y="132372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8896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68800" y="3751560"/>
            <a:ext cx="2551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CADB4A-7786-483A-9698-2F5CFF50E26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C7E4C-66DC-4163-8463-7026B48C1C1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A51DBE-DC51-49DE-8CBB-0F515443577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FFFD6-23D1-4742-B8C2-0ABF0DB98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"/>
          <p:cNvPicPr/>
          <p:nvPr/>
        </p:nvPicPr>
        <p:blipFill>
          <a:blip r:embed="rId3"/>
          <a:stretch/>
        </p:blipFill>
        <p:spPr>
          <a:xfrm>
            <a:off x="7380360" y="299880"/>
            <a:ext cx="1104840" cy="40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513480" y="6416640"/>
            <a:ext cx="220968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39D6-234B-4F34-99D1-EFA6BC9D29E0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5" name="直線コネクタ 13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"/>
          <p:cNvPicPr/>
          <p:nvPr/>
        </p:nvPicPr>
        <p:blipFill>
          <a:blip r:embed="rId3"/>
          <a:stretch/>
        </p:blipFill>
        <p:spPr>
          <a:xfrm>
            <a:off x="7380360" y="299880"/>
            <a:ext cx="1104840" cy="4096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400" name="直線コネクタ 13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9"/>
          </p:nvPr>
        </p:nvSpPr>
        <p:spPr>
          <a:xfrm>
            <a:off x="6405120" y="632304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1BE2-01F7-45A3-9AB0-57B7FD9BD665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"/>
          <p:cNvPicPr/>
          <p:nvPr/>
        </p:nvPicPr>
        <p:blipFill>
          <a:blip r:embed="rId3"/>
          <a:stretch/>
        </p:blipFill>
        <p:spPr>
          <a:xfrm>
            <a:off x="7380360" y="299880"/>
            <a:ext cx="1104840" cy="4096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444" name="直線コネクタ 13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10"/>
          </p:nvPr>
        </p:nvSpPr>
        <p:spPr>
          <a:xfrm>
            <a:off x="6405120" y="632304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50D2-33E1-4BD4-B7BC-E8D823444C30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9" descr=""/>
          <p:cNvPicPr/>
          <p:nvPr/>
        </p:nvPicPr>
        <p:blipFill>
          <a:blip r:embed="rId3"/>
          <a:stretch/>
        </p:blipFill>
        <p:spPr>
          <a:xfrm>
            <a:off x="7380360" y="299880"/>
            <a:ext cx="1104840" cy="4096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488" name="直線コネクタ 13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11"/>
          </p:nvPr>
        </p:nvSpPr>
        <p:spPr>
          <a:xfrm>
            <a:off x="6405120" y="632304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004D-4D45-4310-8D8C-1A3FFA4DB13B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4" descr=""/>
          <p:cNvPicPr/>
          <p:nvPr/>
        </p:nvPicPr>
        <p:blipFill>
          <a:blip r:embed="rId2"/>
          <a:stretch/>
        </p:blipFill>
        <p:spPr>
          <a:xfrm>
            <a:off x="3924360" y="419040"/>
            <a:ext cx="1295280" cy="658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826920" y="1270080"/>
            <a:ext cx="727416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4"/>
          <a:stretch/>
        </p:blipFill>
        <p:spPr>
          <a:xfrm>
            <a:off x="934920" y="6064200"/>
            <a:ext cx="727416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>
            <a:off x="7380360" y="299880"/>
            <a:ext cx="1104840" cy="409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89" name="直線コネクタ 13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2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5110-9F1F-45BB-85C1-00F55EDD6BB3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3"/>
          <a:stretch/>
        </p:blipFill>
        <p:spPr>
          <a:xfrm>
            <a:off x="7380360" y="299880"/>
            <a:ext cx="1104840" cy="409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133" name="直線コネクタ 13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3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536F-E27B-4EB3-8A3D-34635AD82B69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"/>
          <p:cNvPicPr/>
          <p:nvPr/>
        </p:nvPicPr>
        <p:blipFill>
          <a:blip r:embed="rId3"/>
          <a:stretch/>
        </p:blipFill>
        <p:spPr>
          <a:xfrm>
            <a:off x="7380360" y="299880"/>
            <a:ext cx="1104840" cy="409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177" name="直線コネクタ 13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4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1073-B61B-4D31-AD35-26851419F2DE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3"/>
          <a:stretch/>
        </p:blipFill>
        <p:spPr>
          <a:xfrm>
            <a:off x="7380360" y="299880"/>
            <a:ext cx="1104840" cy="409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221" name="直線コネクタ 13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5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8A22-A106-48DF-8822-38FEDB813A28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3"/>
          <a:stretch/>
        </p:blipFill>
        <p:spPr>
          <a:xfrm>
            <a:off x="7380360" y="299880"/>
            <a:ext cx="1104840" cy="4096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265" name="直線コネクタ 13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6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E7CC-41B9-48FA-A885-E3062F92BF20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9" descr=""/>
          <p:cNvPicPr/>
          <p:nvPr/>
        </p:nvPicPr>
        <p:blipFill>
          <a:blip r:embed="rId3"/>
          <a:stretch/>
        </p:blipFill>
        <p:spPr>
          <a:xfrm>
            <a:off x="7380360" y="299880"/>
            <a:ext cx="1104840" cy="409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309" name="直線コネクタ 13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図 8" descr=""/>
          <p:cNvPicPr/>
          <p:nvPr/>
        </p:nvPicPr>
        <p:blipFill>
          <a:blip r:embed="rId6"/>
          <a:stretch/>
        </p:blipFill>
        <p:spPr>
          <a:xfrm>
            <a:off x="3324240" y="3141720"/>
            <a:ext cx="2424240" cy="1244520"/>
          </a:xfrm>
          <a:prstGeom prst="rect">
            <a:avLst/>
          </a:prstGeom>
          <a:ln w="0">
            <a:noFill/>
          </a:ln>
        </p:spPr>
      </p:pic>
      <p:sp>
        <p:nvSpPr>
          <p:cNvPr id="311" name="テキスト ボックス 14"/>
          <p:cNvSpPr/>
          <p:nvPr/>
        </p:nvSpPr>
        <p:spPr>
          <a:xfrm>
            <a:off x="250920" y="1052640"/>
            <a:ext cx="87138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テキスト ボックス 15"/>
          <p:cNvSpPr/>
          <p:nvPr/>
        </p:nvSpPr>
        <p:spPr>
          <a:xfrm>
            <a:off x="468360" y="223920"/>
            <a:ext cx="8209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7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48B5-84B3-4071-BBD5-4729B72F0D4F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4" descr="_x0008_cbw2.jpg                                                       0001394F_x0004_HD60                           C28A1E02:"/>
          <p:cNvPicPr/>
          <p:nvPr/>
        </p:nvPicPr>
        <p:blipFill>
          <a:blip r:embed="rId2"/>
          <a:srcRect l="0" t="4850" r="0" b="81507"/>
          <a:stretch/>
        </p:blipFill>
        <p:spPr>
          <a:xfrm>
            <a:off x="0" y="11160"/>
            <a:ext cx="9145440" cy="936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"/>
          <p:cNvPicPr/>
          <p:nvPr/>
        </p:nvPicPr>
        <p:blipFill>
          <a:blip r:embed="rId3"/>
          <a:stretch/>
        </p:blipFill>
        <p:spPr>
          <a:xfrm>
            <a:off x="7380360" y="299880"/>
            <a:ext cx="1104840" cy="4096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1" descr=""/>
          <p:cNvPicPr/>
          <p:nvPr/>
        </p:nvPicPr>
        <p:blipFill>
          <a:blip r:embed="rId4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6" descr=""/>
          <p:cNvPicPr/>
          <p:nvPr/>
        </p:nvPicPr>
        <p:blipFill>
          <a:blip r:embed="rId5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sp>
        <p:nvSpPr>
          <p:cNvPr id="356" name="直線コネクタ 13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09480" y="132372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531720" y="256680"/>
            <a:ext cx="701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8"/>
          </p:nvPr>
        </p:nvSpPr>
        <p:spPr>
          <a:xfrm>
            <a:off x="6405120" y="6453360"/>
            <a:ext cx="22100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E684-A18A-4725-9225-EBBDFF429E80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2519280" y="3828600"/>
            <a:ext cx="41054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19280" y="3252960"/>
            <a:ext cx="4105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2519280" y="4979520"/>
            <a:ext cx="41054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519280" y="4403880"/>
            <a:ext cx="4105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title"/>
          </p:nvPr>
        </p:nvSpPr>
        <p:spPr>
          <a:xfrm>
            <a:off x="1107720" y="2274840"/>
            <a:ext cx="6777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スライド番号プレースホルダー 1"/>
          <p:cNvSpPr/>
          <p:nvPr/>
        </p:nvSpPr>
        <p:spPr>
          <a:xfrm>
            <a:off x="6405480" y="6424560"/>
            <a:ext cx="22100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046E-33EE-4B2B-8D43-A198E4E39936}" type="slidenum">
              <a:rPr b="0" lang="en-US" sz="1500" spc="-1" strike="noStrike">
                <a:solidFill>
                  <a:srgbClr val="000000"/>
                </a:solidFill>
                <a:latin typeface="Univers 65 Bold"/>
                <a:ea typeface="Osaka"/>
              </a:rPr>
              <a:t>1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87280" y="2565000"/>
            <a:ext cx="677736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4440" y="283680"/>
            <a:ext cx="64882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ＭＳ Ｐゴシック"/>
              <a:ea typeface="メイリオ"/>
            </a:endParaRPr>
          </a:p>
        </p:txBody>
      </p:sp>
      <p:sp>
        <p:nvSpPr>
          <p:cNvPr id="536" name="スライド番号プレースホルダー 2"/>
          <p:cNvSpPr/>
          <p:nvPr/>
        </p:nvSpPr>
        <p:spPr>
          <a:xfrm>
            <a:off x="6405480" y="6424560"/>
            <a:ext cx="22100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D1D4-3966-44B9-98FA-CD44BBA23CF1}" type="slidenum">
              <a:rPr b="0" lang="en-US" sz="1500" spc="-1" strike="noStrike">
                <a:solidFill>
                  <a:srgbClr val="000000"/>
                </a:solidFill>
                <a:latin typeface="Univers 65 Bold"/>
                <a:ea typeface="Osak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4440" y="1198080"/>
            <a:ext cx="7929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14520" y="1647720"/>
            <a:ext cx="79293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スライド番号プレースホルダー 2"/>
          <p:cNvSpPr/>
          <p:nvPr/>
        </p:nvSpPr>
        <p:spPr>
          <a:xfrm>
            <a:off x="6405480" y="6424560"/>
            <a:ext cx="22100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49B2-8BF9-4968-921E-365F8D47FC27}" type="slidenum">
              <a:rPr b="0" lang="en-US" sz="1500" spc="-1" strike="noStrike">
                <a:solidFill>
                  <a:srgbClr val="000000"/>
                </a:solidFill>
                <a:latin typeface="Univers 65 Bold"/>
                <a:ea typeface="Osak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206064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03:46:32Z</dcterms:created>
  <dc:creator/>
  <dc:description/>
  <dc:language>en-US</dc:language>
  <cp:lastModifiedBy/>
  <cp:lastPrinted>2007-05-18T02:20:33Z</cp:lastPrinted>
  <dcterms:modified xsi:type="dcterms:W3CDTF">2018-01-29T12:47:19Z</dcterms:modified>
  <cp:revision>79</cp:revision>
  <dc:subject/>
  <dc:title>PowerPoint プレゼンテーション</dc:title>
</cp:coreProperties>
</file>