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68A6-8D29-4656-8D38-77659E6E20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18920" y="36086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B8053-0D99-43EC-A5F9-57353C8F8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576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18920" y="3608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5760" y="3608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BCDF-D061-4E88-9F2A-7E34E48FD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5520" y="1101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2120" y="1101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18920" y="3608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5520" y="3608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2120" y="3608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640DF-0A18-42E7-9976-FE6F7A153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18920" y="1101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5760" y="1101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8920" y="155520"/>
            <a:ext cx="6367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5760" y="1101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8920" y="3608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18920" y="1101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B25E-52AF-4340-82DA-51E852F9E0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576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75760" y="3608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576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18920" y="36086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18920" y="36086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7576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18920" y="3608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75760" y="3608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95520" y="1101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2120" y="1101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18920" y="3608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95520" y="3608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2120" y="3608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9C518-1ACD-4A05-8294-EFDA59D762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18920" y="1101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98C91-75C3-467E-84E5-5DCDCCE3B1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26C2B-6A8E-4299-A92A-AC39D537A2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75760" y="1101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DA93C-9404-4E57-9D23-453CDC3E57A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1C9F3-53E6-418B-A451-963A0376C8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0FA2E-B905-4278-9B41-A5D2E399EC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18920" y="155520"/>
            <a:ext cx="6367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EA74A-D0AA-4CBE-8114-1002ACDD89C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75760" y="1101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18920" y="3608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3222A-5BCA-4FD4-8F60-92CF0001350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7576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75760" y="3608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E2CA-9DB3-4CB8-B84F-C1DB6E3B5CE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7576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18920" y="36086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03AE-6A43-4118-A8EE-5B7B74E949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18920" y="36086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EFEC-1E45-4AC4-A1DA-68B32681FC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7576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18920" y="3608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75760" y="3608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24A1-6224-4899-9358-5E3F2BF501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95520" y="1101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72120" y="11012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18920" y="3608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95520" y="3608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72120" y="3608640"/>
            <a:ext cx="2548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9D20C-6846-4BEF-8B8D-B711F6D4B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5760" y="1101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88BE-7663-4A61-85AF-22D04CBE4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E40A-D4DD-4342-A2E4-9AEC9982A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8920" y="155520"/>
            <a:ext cx="6367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B2C7-5339-4C0A-B5A9-FB1D960E4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5760" y="1101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18920" y="3608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97DD3-619F-4D60-BFF4-BEF57498C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3863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576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5760" y="36086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5BCD9-8D39-4D97-9E77-AA293143A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1892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5760" y="1101240"/>
            <a:ext cx="3863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18920" y="3608640"/>
            <a:ext cx="7916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FE7F-9E07-4E01-A06A-AC805A457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"/>
          <p:cNvPicPr/>
          <p:nvPr/>
        </p:nvPicPr>
        <p:blipFill>
          <a:blip r:embed="rId2"/>
          <a:stretch/>
        </p:blipFill>
        <p:spPr>
          <a:xfrm>
            <a:off x="7843680" y="150840"/>
            <a:ext cx="755640" cy="576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9" descr="&#9;全和b.jpg                                                      0001394F_x0004_HD60                           C28A1E02:"/>
          <p:cNvPicPr/>
          <p:nvPr/>
        </p:nvPicPr>
        <p:blipFill>
          <a:blip r:embed="rId3"/>
          <a:srcRect l="0" t="92042" r="0" b="0"/>
          <a:stretch/>
        </p:blipFill>
        <p:spPr>
          <a:xfrm>
            <a:off x="0" y="6313320"/>
            <a:ext cx="9145440" cy="546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2" descr=""/>
          <p:cNvPicPr/>
          <p:nvPr/>
        </p:nvPicPr>
        <p:blipFill>
          <a:blip r:embed="rId4"/>
          <a:stretch/>
        </p:blipFill>
        <p:spPr>
          <a:xfrm>
            <a:off x="3219480" y="651024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4" descr=""/>
          <p:cNvPicPr/>
          <p:nvPr/>
        </p:nvPicPr>
        <p:blipFill>
          <a:blip r:embed="rId5"/>
          <a:srcRect l="0" t="0" r="0" b="21393"/>
          <a:stretch/>
        </p:blipFill>
        <p:spPr>
          <a:xfrm>
            <a:off x="0" y="6431040"/>
            <a:ext cx="2620800" cy="426960"/>
          </a:xfrm>
          <a:prstGeom prst="rect">
            <a:avLst/>
          </a:prstGeom>
          <a:ln w="0">
            <a:noFill/>
          </a:ln>
        </p:spPr>
      </p:pic>
      <p:sp>
        <p:nvSpPr>
          <p:cNvPr id="4" name="直線コネクタ 12"/>
          <p:cNvSpPr/>
          <p:nvPr/>
        </p:nvSpPr>
        <p:spPr>
          <a:xfrm>
            <a:off x="719280" y="826920"/>
            <a:ext cx="7902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718920" y="1101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13480" y="6431040"/>
            <a:ext cx="2209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Univers 65 Bold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703A-E5BD-4E68-8743-87A241AF722B}" type="slidenum">
              <a:rPr b="0" lang="en-US" sz="1500" spc="-1" strike="noStrike">
                <a:solidFill>
                  <a:srgbClr val="ffffff"/>
                </a:solidFill>
                <a:latin typeface="Univers 65 Bold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&#9;全和a.jpg                                                      0001394F_x0004_HD60                           C28A1E02:"/>
          <p:cNvPicPr/>
          <p:nvPr/>
        </p:nvPicPr>
        <p:blipFill>
          <a:blip r:embed="rId2"/>
          <a:srcRect l="0" t="22115" r="13043" b="11386"/>
          <a:stretch/>
        </p:blipFill>
        <p:spPr>
          <a:xfrm>
            <a:off x="0" y="1052640"/>
            <a:ext cx="9144000" cy="5260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468360" y="223920"/>
            <a:ext cx="2374920" cy="647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18920" y="1101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9" descr=""/>
          <p:cNvPicPr/>
          <p:nvPr/>
        </p:nvPicPr>
        <p:blipFill>
          <a:blip r:embed="rId2"/>
          <a:stretch/>
        </p:blipFill>
        <p:spPr>
          <a:xfrm>
            <a:off x="7843680" y="150840"/>
            <a:ext cx="755640" cy="576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9" descr="&#9;全和b.jpg                                                      0001394F_x0004_HD60                           C28A1E02:"/>
          <p:cNvPicPr/>
          <p:nvPr/>
        </p:nvPicPr>
        <p:blipFill>
          <a:blip r:embed="rId3"/>
          <a:srcRect l="0" t="92042" r="0" b="0"/>
          <a:stretch/>
        </p:blipFill>
        <p:spPr>
          <a:xfrm>
            <a:off x="0" y="6313320"/>
            <a:ext cx="9145440" cy="546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2" descr=""/>
          <p:cNvPicPr/>
          <p:nvPr/>
        </p:nvPicPr>
        <p:blipFill>
          <a:blip r:embed="rId4"/>
          <a:stretch/>
        </p:blipFill>
        <p:spPr>
          <a:xfrm>
            <a:off x="3219480" y="6510240"/>
            <a:ext cx="2889360" cy="152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4" descr=""/>
          <p:cNvPicPr/>
          <p:nvPr/>
        </p:nvPicPr>
        <p:blipFill>
          <a:blip r:embed="rId5"/>
          <a:srcRect l="0" t="0" r="0" b="21393"/>
          <a:stretch/>
        </p:blipFill>
        <p:spPr>
          <a:xfrm>
            <a:off x="0" y="6431040"/>
            <a:ext cx="2620800" cy="426960"/>
          </a:xfrm>
          <a:prstGeom prst="rect">
            <a:avLst/>
          </a:prstGeom>
          <a:ln w="0">
            <a:noFill/>
          </a:ln>
        </p:spPr>
      </p:pic>
      <p:sp>
        <p:nvSpPr>
          <p:cNvPr id="88" name="直線コネクタ 12"/>
          <p:cNvSpPr/>
          <p:nvPr/>
        </p:nvSpPr>
        <p:spPr>
          <a:xfrm>
            <a:off x="719280" y="826920"/>
            <a:ext cx="7902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250920" y="1052640"/>
            <a:ext cx="87138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39640" y="115920"/>
            <a:ext cx="8353440" cy="117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図 10" descr=""/>
          <p:cNvPicPr/>
          <p:nvPr/>
        </p:nvPicPr>
        <p:blipFill>
          <a:blip r:embed="rId6"/>
          <a:stretch/>
        </p:blipFill>
        <p:spPr>
          <a:xfrm>
            <a:off x="3635280" y="2852640"/>
            <a:ext cx="1944720" cy="1584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8920" y="15552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18920" y="1101240"/>
            <a:ext cx="7916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ＭＳ 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2"/>
          </p:nvPr>
        </p:nvSpPr>
        <p:spPr>
          <a:xfrm>
            <a:off x="6513480" y="6431040"/>
            <a:ext cx="22096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ffffff"/>
                </a:solidFill>
                <a:latin typeface="Univers 65 Bold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1269-4E22-4F36-B13A-13DA2D47B2D7}" type="slidenum">
              <a:rPr b="0" lang="en-US" sz="1500" spc="-1" strike="noStrike">
                <a:solidFill>
                  <a:srgbClr val="ffffff"/>
                </a:solidFill>
                <a:latin typeface="Univers 65 Bold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21960" y="2276280"/>
            <a:ext cx="7466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67280" y="4365360"/>
            <a:ext cx="4752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5000"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067280" y="4890960"/>
            <a:ext cx="4752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5000"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75200" y="5416200"/>
            <a:ext cx="4744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075200" y="3822480"/>
            <a:ext cx="474480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2571840"/>
            <a:ext cx="7559640" cy="1512720"/>
          </a:xfrm>
          <a:prstGeom prst="rect">
            <a:avLst/>
          </a:prstGeom>
          <a:solidFill>
            <a:srgbClr val="03278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ja-JP" sz="3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スライド番号プレースホルダー 1"/>
          <p:cNvSpPr/>
          <p:nvPr/>
        </p:nvSpPr>
        <p:spPr>
          <a:xfrm>
            <a:off x="6513480" y="6431040"/>
            <a:ext cx="2209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EFD4-8B7D-4634-ACB8-4234F4A488AE}" type="slidenum">
              <a:rPr b="0" lang="en-US" sz="1500" spc="-1" strike="noStrike">
                <a:solidFill>
                  <a:srgbClr val="ffffff"/>
                </a:solidFill>
                <a:latin typeface="Univers 65 Bold"/>
                <a:ea typeface="Osak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18920" y="163440"/>
            <a:ext cx="636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26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18920" y="1294920"/>
            <a:ext cx="7916760" cy="4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18920" y="1844640"/>
            <a:ext cx="79167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1" name="スライド番号プレースホルダー 3"/>
          <p:cNvSpPr/>
          <p:nvPr/>
        </p:nvSpPr>
        <p:spPr>
          <a:xfrm>
            <a:off x="6513480" y="6431040"/>
            <a:ext cx="2209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2C57-FDB2-4933-AA8B-92CAC2AF8D1D}" type="slidenum">
              <a:rPr b="0" lang="en-US" sz="1500" spc="-1" strike="noStrike">
                <a:solidFill>
                  <a:srgbClr val="ffffff"/>
                </a:solidFill>
                <a:latin typeface="Univers 65 Bold"/>
                <a:ea typeface="Osak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スライド番号プレースホルダー 2"/>
          <p:cNvSpPr/>
          <p:nvPr/>
        </p:nvSpPr>
        <p:spPr>
          <a:xfrm>
            <a:off x="6513480" y="6431040"/>
            <a:ext cx="22096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259B-C1D9-41F4-8E5B-4DD1EED9D357}" type="slidenum">
              <a:rPr b="0" lang="en-US" sz="1500" spc="-1" strike="noStrike">
                <a:solidFill>
                  <a:srgbClr val="ffffff"/>
                </a:solidFill>
                <a:latin typeface="Univers 65 Bold"/>
                <a:ea typeface="Osaka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0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03:25:54Z</dcterms:created>
  <dc:creator/>
  <dc:description/>
  <dc:language>en-US</dc:language>
  <cp:lastModifiedBy/>
  <cp:lastPrinted>2007-05-18T01:58:30Z</cp:lastPrinted>
  <dcterms:modified xsi:type="dcterms:W3CDTF">2018-01-23T04:55:53Z</dcterms:modified>
  <cp:revision>52</cp:revision>
  <dc:subject/>
  <dc:title>PowerPoint プレゼンテーション</dc:title>
</cp:coreProperties>
</file>