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83E6-1346-45D2-ABBB-7CD606CD3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9304-AA86-4DDF-93E7-35CF3EB1912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26C4E-7A94-4036-A6AD-67CF28EB9B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17DF3-4902-4C8F-ACCB-7CA87B759F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2CD33-16F8-4A55-9AFA-37F613BDC8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4F263-82A9-4557-885C-53000ED479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D1BE7-461C-4BDD-869C-104CF3CCF5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968E8-E1F2-4108-AD03-46E870D136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41AF4-B335-4999-BE46-A5F86EC8B4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B721A-5D33-445E-B79A-6E6A987A0B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4CEEA-7E1B-4E2F-815B-E48A7DE39E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14AB-CA6A-4D01-9E04-892021C8E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3B97-68BA-4271-A3A5-ABA6C1169F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FA3C-C3E2-406B-AFB7-20C12C1F4A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EE27-F0F5-4698-AC83-AAF09FA036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165A-5E80-4EA1-997B-E716D0D976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0F2C-A9A9-4801-98F8-927771C909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95B6-0A59-4A8B-966F-0EEDB43E7C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24BA-19C2-4F04-8912-C43FE3E37EE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8AD6-7D49-463F-AB60-450CA174A6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6321-767D-4684-AACC-8A89B064A0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0605-F2CD-45FC-A56A-30F39AFE3D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96CE-5F44-4839-AC70-F5438256B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7BA3-A5BA-4A0B-A9C5-55603F5AAF0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6450-B174-4CB6-B89D-911E7CD40E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7546B-6202-41E6-9A84-F4E9D56943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35778-517B-4B5F-BCAF-8907C2EC6C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EBBCC-99B0-4383-B21C-DB382DC6D1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D7732-6496-494B-BA10-6C86986826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301D6-9CE5-4C03-B719-B2B4EDDFBF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E4A0A-C5C6-487D-888B-072B6D0E66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96916-89B6-431C-AD78-D898620077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856AD-F016-48E8-AD43-4219615150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9F095-58CB-462A-9B22-06423BB9E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BAEF0-35C0-4190-9283-33D49D35A73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E6337-8144-45C2-948C-314F8B93A6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AB1FC-C8C4-49E0-B192-695C3B8CE88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78C23-C117-479E-83C9-654D0B7ED1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E4D80-E1D8-4C9B-9A40-F70264170C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97179-81D0-4823-A967-B5FBC3BAD05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AAED4-24FD-4D0E-84C8-C871F0D1997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F102B-2203-4C75-85E0-9A9FC658960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28F5F-BF34-44B9-AA7B-D5F46750DF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6C933-8BC9-4BDD-A0AF-BDBC09456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7CA61-772D-4256-9072-E912E85AAEA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03A71-E5C3-45A8-9CE3-767418090E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8492A-4385-4A64-B8D9-D2F4B4E2239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9721E-4076-49FE-BC27-F017F022AE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A90F8-15DB-4412-9531-CE8DAFD43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ADBA-8E0F-40E5-8886-D70BE2653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8BEE-D9DB-4555-8AD5-13FD082915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073F-0FB4-40E2-853B-A5D6C81C0A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1314-2A22-484E-B194-C1C6B09AFA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3BD9-0710-4085-82B1-86A00E32E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F95A-83B8-4AC5-A0F5-E780932A82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340D-896E-4678-93EB-D90C69C97F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F17B-3D03-4946-9E8A-281776A8B6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FFE8-4015-473B-ABF9-502D83D7AD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1749-6F27-4D7B-946D-77F77A49B9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40BA-D071-45C6-9472-0BB396CAAD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24D0-DB23-47D6-BB74-A3036B147D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386E-053F-4800-BEB9-DF9C192671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1AFE-20DA-43B1-A9FA-5EE26E4A18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A50-60AE-4453-A4B6-00C27E591E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A7F-6362-440C-8EF0-2413C39470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443-4CFB-4D7A-910D-E204F2F9F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47E0-D499-4868-B8E9-B7DC3C0A7B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BF5-B67D-4792-89E9-4E89C4244C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52D-B62D-487F-83D1-70FE77CF70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1FB-E34C-4C5A-BB87-9A5EC7A5D0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265-ACF5-4147-A99E-5855F3ECCB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3A6-F881-4946-B1D1-BCA7D827BF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065-1D84-4504-A714-7290699E3A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2B-CA4E-48AA-B7E2-41D68B7017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E17-83F7-4D92-8539-72AFD758AC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676-F9A8-49EB-AD08-3F9425FC10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53127-BB8E-42D8-81F5-9BD590EE6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FB8E-9E43-4169-9EE6-86BEACCEB4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54B5D-EEB3-4BC7-A3AE-5E8179B1E2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E0143-5B4E-4A8D-BBAD-120682844B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7FB56-C378-4DD8-96A0-0A305C1544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959E6-A065-43D7-A032-DF47773AC5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7F14A-4899-408E-83FD-5A24E343B5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7F7FB-2BA7-4099-9016-C95263960F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87EBB-D7E7-4129-879F-C7ACAA5BBC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B9F92-0687-404E-B8F5-E9630A3857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1AE11-2D58-4D25-A06B-CD33D081B6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9DBD4-F371-41F6-B032-56F316100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DD13-27D8-4689-A017-AA693AE83E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3709-8D8F-423C-9DA6-EA240B787EF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36720-F2E1-4324-B4EA-273FE79C00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F7D55-3B22-4172-8A23-DFCB2A287D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7AD43-50C9-4D9B-B42D-7FC6E9B93D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A6FD-62FD-4E8D-9A80-9995D4D7B7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DE507-5FF6-408E-9A39-B83546C2D1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75485-1318-4BA2-B73E-E2F20BD5B8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79160-3B53-45AA-8EF9-97C2FA39F9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510B6-CD5E-4F3B-ABD2-B6EAB92D2D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74B39-B259-4EAE-8AEA-50884F697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9040-2B7C-4074-B045-DACAE81B508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86F70-83A7-4998-B8CC-E34645BA7D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9D421-9EDC-4B1C-A11F-50DB452F9B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F1210-4AEA-439C-8E13-87046A3306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AFFD-230B-4CB4-8197-A75BCD5CFC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F1A-1465-48B8-AE6D-0ADA0F20D7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3480-9B8B-462F-8E90-CBFB50D8D9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8CD4-4401-4A5C-9256-84B4D0826B5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AB0D-F1A2-4D42-B0C0-A988CC3D97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3E75-E5A1-418F-8270-ABA89906D9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6D7-7686-440F-8CAC-46B2DDAAA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E620-6F3F-433C-B0A6-31C30688B4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213-EB5F-4229-8E0C-6BD3C0362D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90F6-ADA1-4854-97C0-954602BAE3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C436-070E-430B-A162-BB22F24E9C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3D82-9A58-425A-BA1B-0EBBE90677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4898-FF53-469E-8DD8-59D3D946BAE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01007-C53F-4C83-B0AE-2D10664796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3635B-420C-481A-B503-8E215D76D6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AEEED-01E6-45AD-9FFE-3470AC7611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B1A67-C7B6-49F0-888D-400ED3029C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85E4B-FC74-42CB-A111-16B1D3872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2F28-DA22-43DF-856A-68D684FBE4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1720" y="266760"/>
            <a:ext cx="701064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C048A-AB88-44A6-A885-04B86D527D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3E2C6-AC11-4A16-B4FC-F896C4BA08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8B4D5-D473-4FD0-B0F9-205A7E6A59F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C7EE4-F0B8-491F-A18F-5E86A9854A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09480" y="36648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3847A-04AA-40E3-A947-ADF2D5B152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36648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F79FF3-7AB0-4AB6-8F3A-7C029F5043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8896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8800" y="12366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0948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8896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8800" y="36648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B777F-D79B-413E-8959-058101BE67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648DF-7C5A-4237-9271-6E5E4116B0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92B02-39AA-483D-86F0-F93B64D03F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D7D2D-C05C-444F-BB81-DD0C35B2B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926C-E5B8-43DE-997C-5D78F303346F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98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9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72B3-532D-4476-A6E7-18DB5E3D7C0A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42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0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6A7-9BC2-461C-989C-7A174D6C9F33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86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1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08A-4619-4311-9E2C-B408F97BE9B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826920" y="1270080"/>
            <a:ext cx="727416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934920" y="6064200"/>
            <a:ext cx="727416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4"/>
          <a:stretch/>
        </p:blipFill>
        <p:spPr>
          <a:xfrm>
            <a:off x="3780000" y="165240"/>
            <a:ext cx="1512720" cy="1222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88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2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D6A0-DC1D-4C90-B970-00FC29E42A3E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32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3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E582-5399-4877-A3BC-B0309F5EDB51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76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4"/>
          </p:nvPr>
        </p:nvSpPr>
        <p:spPr>
          <a:xfrm>
            <a:off x="6405120" y="6435360"/>
            <a:ext cx="2210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B19-5589-429A-9D67-0394C1A5A96D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20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5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DB7-50BB-4EAB-9871-872CC7A3C74D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6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F237-46C2-4679-AD6D-EBC2002CA255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08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pic>
        <p:nvPicPr>
          <p:cNvPr id="310" name="図 8" descr=""/>
          <p:cNvPicPr/>
          <p:nvPr/>
        </p:nvPicPr>
        <p:blipFill>
          <a:blip r:embed="rId6"/>
          <a:stretch/>
        </p:blipFill>
        <p:spPr>
          <a:xfrm>
            <a:off x="3419640" y="2738520"/>
            <a:ext cx="2292120" cy="1930320"/>
          </a:xfrm>
          <a:prstGeom prst="rect">
            <a:avLst/>
          </a:prstGeom>
          <a:ln w="0">
            <a:noFill/>
          </a:ln>
        </p:spPr>
      </p:pic>
      <p:sp>
        <p:nvSpPr>
          <p:cNvPr id="311" name="テキスト ボックス 14"/>
          <p:cNvSpPr/>
          <p:nvPr/>
        </p:nvSpPr>
        <p:spPr>
          <a:xfrm>
            <a:off x="250920" y="115920"/>
            <a:ext cx="8642160" cy="11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7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AFE-CC22-4059-90EF-EFE657C5F65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54" name="直線コネクタ 1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5"/>
          <a:stretch/>
        </p:blipFill>
        <p:spPr>
          <a:xfrm>
            <a:off x="7740720" y="216000"/>
            <a:ext cx="755640" cy="576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09480" y="1236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531720" y="266760"/>
            <a:ext cx="7010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8"/>
          </p:nvPr>
        </p:nvSpPr>
        <p:spPr>
          <a:xfrm>
            <a:off x="6405120" y="632304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CD8-BEE7-439E-81E5-F0DC8624FE02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2504880" y="3284640"/>
            <a:ext cx="4119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13160" y="3860280"/>
            <a:ext cx="41176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504880" y="4451400"/>
            <a:ext cx="4119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513160" y="5025960"/>
            <a:ext cx="4117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title"/>
          </p:nvPr>
        </p:nvSpPr>
        <p:spPr>
          <a:xfrm>
            <a:off x="1130040" y="2334960"/>
            <a:ext cx="675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スライド番号プレースホルダー 1"/>
          <p:cNvSpPr/>
          <p:nvPr/>
        </p:nvSpPr>
        <p:spPr>
          <a:xfrm>
            <a:off x="640548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226D-EF2B-4275-A47F-21E1DE9A128C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30040" y="2587320"/>
            <a:ext cx="67546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11280" y="1204920"/>
            <a:ext cx="7921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6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1280" y="1557360"/>
            <a:ext cx="7921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6" name="スライド番号プレースホルダー 3"/>
          <p:cNvSpPr/>
          <p:nvPr/>
        </p:nvSpPr>
        <p:spPr>
          <a:xfrm>
            <a:off x="640548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013-63D7-4D24-A0C4-EB46FA092D13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10920" y="204840"/>
            <a:ext cx="67690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スライド番号プレースホルダー 1"/>
          <p:cNvSpPr/>
          <p:nvPr/>
        </p:nvSpPr>
        <p:spPr>
          <a:xfrm>
            <a:off x="640548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B74D-A5AA-4EA1-AC0D-5F41E5277E54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4360" y="2007720"/>
            <a:ext cx="77421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46:32Z</dcterms:created>
  <dc:creator/>
  <dc:description/>
  <dc:language>en-US</dc:language>
  <cp:lastModifiedBy/>
  <cp:lastPrinted>2007-05-09T04:41:57Z</cp:lastPrinted>
  <dcterms:modified xsi:type="dcterms:W3CDTF">2018-02-01T00:48:05Z</dcterms:modified>
  <cp:revision>75</cp:revision>
  <dc:subject/>
  <dc:title>PowerPoint プレゼンテーション</dc:title>
</cp:coreProperties>
</file>