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24CE4-7421-4F27-B387-9549ECB58C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49080" y="102996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49080" y="353736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583C6-43A5-4EC7-845F-80DA8D4E8A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49080" y="102996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0640" y="102996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9080" y="353736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0640" y="353736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A41DF-9463-4BA2-AE98-8EB5B0058C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49080" y="102996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02640" y="102996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6200" y="102996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49080" y="353736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02640" y="353736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6200" y="353736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B7F1F-CFCE-4AE5-8B98-6E5E3B4E78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49080" y="102996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49080" y="102996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49080" y="102996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640" y="102996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メイリオ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18920" y="183960"/>
            <a:ext cx="63673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49080" y="102996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640" y="102996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9080" y="353736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49080" y="102996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A3F20-DE0D-48E1-AE66-20E56DDA83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49080" y="102996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640" y="102996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640" y="353736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49080" y="102996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640" y="102996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49080" y="353736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49080" y="102996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49080" y="353736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49080" y="102996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640" y="102996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49080" y="353736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640" y="353736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49080" y="102996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2640" y="102996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56200" y="102996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49080" y="353736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2640" y="353736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56200" y="353736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BF326-663F-4798-8576-11F12103C91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49080" y="102996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E743F-2021-4230-8B1C-03063FD868F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9080" y="102996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8B5BA-D90B-4E89-BBD3-45D892D0D95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49080" y="102996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640" y="102996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39641-846B-4257-9334-AAD8446223B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DC07F-F720-4D7C-A2A8-0D03A37405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49080" y="102996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BCA16-D4FB-4149-9C43-29B912D923D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718920" y="183960"/>
            <a:ext cx="63673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3A8B9-B972-4401-A1B3-0879735FCD5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49080" y="102996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0640" y="102996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49080" y="353736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A3B9C-19F3-4CC5-989C-86BF29ABC14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49080" y="102996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0640" y="102996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0640" y="353736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F28C7-2DF0-41F2-8BB4-053626AF1AD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49080" y="102996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640" y="102996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49080" y="353736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4A71A-F5FD-49B2-9B3E-9DB4B17BC6B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49080" y="102996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49080" y="353736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A94D6-070B-484B-A7CC-AFBDE06EA34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49080" y="102996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0640" y="102996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49080" y="353736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0640" y="353736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884DA-622A-48BA-B3A7-DCE3E7A62C2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49080" y="102996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302640" y="102996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956200" y="102996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649080" y="353736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302640" y="353736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956200" y="353736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43B09-F85C-4FB0-B656-1DA87C989C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49080" y="102996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0640" y="102996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4B807-AEDF-4493-81E1-85E918BC85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815DE-3A65-4170-B8BB-F6309629B0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18920" y="183960"/>
            <a:ext cx="63673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614FA-B45E-47DE-8739-3AB2FE65FE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49080" y="102996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0640" y="102996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49080" y="353736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99F0E-84B8-4186-B21C-74D1FC1605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49080" y="102996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0640" y="102996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0640" y="353736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16588-1A5A-4880-8C9A-DFA19568BF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49080" y="102996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0640" y="102996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49080" y="353736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555FE-D5DF-4D36-B2A2-67FE987653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2" descr="&#9;ca和2.jpg                                                      0001394F_x0004_HD60                           C28A1E02:"/>
          <p:cNvPicPr/>
          <p:nvPr/>
        </p:nvPicPr>
        <p:blipFill>
          <a:blip r:embed="rId2"/>
          <a:srcRect l="0" t="0" r="0" b="85307"/>
          <a:stretch/>
        </p:blipFill>
        <p:spPr>
          <a:xfrm>
            <a:off x="-1440" y="-3240"/>
            <a:ext cx="9145440" cy="795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メイリオ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49080" y="102996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メイリオ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メイリオ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メイリオ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メイリオ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メイリオ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メイリオ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メイリオ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13480" y="6416640"/>
            <a:ext cx="220968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Univers 65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0AF17-6F45-48AD-8F4D-9D30B7109981}" type="slidenum">
              <a:rPr b="0" lang="en-US" sz="1500" spc="-1" strike="noStrike">
                <a:solidFill>
                  <a:srgbClr val="000000"/>
                </a:solidFill>
                <a:latin typeface="Univers 65 Bold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31" descr=""/>
          <p:cNvPicPr/>
          <p:nvPr/>
        </p:nvPicPr>
        <p:blipFill>
          <a:blip r:embed="rId3"/>
          <a:srcRect l="0" t="0" r="0" b="46396"/>
          <a:stretch/>
        </p:blipFill>
        <p:spPr>
          <a:xfrm>
            <a:off x="0" y="6426360"/>
            <a:ext cx="2451240" cy="271440"/>
          </a:xfrm>
          <a:prstGeom prst="rect">
            <a:avLst/>
          </a:prstGeom>
          <a:ln w="0">
            <a:noFill/>
          </a:ln>
        </p:spPr>
      </p:pic>
      <p:pic>
        <p:nvPicPr>
          <p:cNvPr id="5" name="Picture 36" descr=""/>
          <p:cNvPicPr/>
          <p:nvPr/>
        </p:nvPicPr>
        <p:blipFill>
          <a:blip r:embed="rId4"/>
          <a:stretch/>
        </p:blipFill>
        <p:spPr>
          <a:xfrm>
            <a:off x="3219480" y="6534000"/>
            <a:ext cx="2889360" cy="1526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0" descr=""/>
          <p:cNvPicPr/>
          <p:nvPr/>
        </p:nvPicPr>
        <p:blipFill>
          <a:blip r:embed="rId5"/>
          <a:stretch/>
        </p:blipFill>
        <p:spPr>
          <a:xfrm>
            <a:off x="7380360" y="222120"/>
            <a:ext cx="1241280" cy="432000"/>
          </a:xfrm>
          <a:prstGeom prst="rect">
            <a:avLst/>
          </a:prstGeom>
          <a:ln w="0">
            <a:noFill/>
          </a:ln>
        </p:spPr>
      </p:pic>
      <p:sp>
        <p:nvSpPr>
          <p:cNvPr id="7" name="直線コネクタ 2"/>
          <p:cNvSpPr/>
          <p:nvPr/>
        </p:nvSpPr>
        <p:spPr>
          <a:xfrm>
            <a:off x="719280" y="6326280"/>
            <a:ext cx="7902360" cy="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3" descr="&#9;cawa1.jpg                                                      0001394F_x0004_HD60                           C28A1E02: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9" descr=""/>
          <p:cNvPicPr/>
          <p:nvPr/>
        </p:nvPicPr>
        <p:blipFill>
          <a:blip r:embed="rId3"/>
          <a:stretch/>
        </p:blipFill>
        <p:spPr>
          <a:xfrm>
            <a:off x="468360" y="549360"/>
            <a:ext cx="1689120" cy="6141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メイリオ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49080" y="102996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メイリオ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メイリオ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メイリオ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メイリオ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メイリオ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メイリオ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メイリオ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2" descr="&#9;ca和2.jpg                                                      0001394F_x0004_HD60                           C28A1E02:"/>
          <p:cNvPicPr/>
          <p:nvPr/>
        </p:nvPicPr>
        <p:blipFill>
          <a:blip r:embed="rId2"/>
          <a:srcRect l="0" t="0" r="0" b="85307"/>
          <a:stretch/>
        </p:blipFill>
        <p:spPr>
          <a:xfrm>
            <a:off x="-1440" y="-3240"/>
            <a:ext cx="9145440" cy="795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1" descr=""/>
          <p:cNvPicPr/>
          <p:nvPr/>
        </p:nvPicPr>
        <p:blipFill>
          <a:blip r:embed="rId3"/>
          <a:srcRect l="0" t="0" r="0" b="46396"/>
          <a:stretch/>
        </p:blipFill>
        <p:spPr>
          <a:xfrm>
            <a:off x="0" y="6426360"/>
            <a:ext cx="2451240" cy="271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6" descr=""/>
          <p:cNvPicPr/>
          <p:nvPr/>
        </p:nvPicPr>
        <p:blipFill>
          <a:blip r:embed="rId4"/>
          <a:stretch/>
        </p:blipFill>
        <p:spPr>
          <a:xfrm>
            <a:off x="3219480" y="6534000"/>
            <a:ext cx="2889360" cy="152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"/>
          <p:cNvPicPr/>
          <p:nvPr/>
        </p:nvPicPr>
        <p:blipFill>
          <a:blip r:embed="rId5"/>
          <a:stretch/>
        </p:blipFill>
        <p:spPr>
          <a:xfrm>
            <a:off x="7380360" y="222120"/>
            <a:ext cx="1241280" cy="432000"/>
          </a:xfrm>
          <a:prstGeom prst="rect">
            <a:avLst/>
          </a:prstGeom>
          <a:ln w="0">
            <a:noFill/>
          </a:ln>
        </p:spPr>
      </p:pic>
      <p:sp>
        <p:nvSpPr>
          <p:cNvPr id="88" name="直線コネクタ 2"/>
          <p:cNvSpPr/>
          <p:nvPr/>
        </p:nvSpPr>
        <p:spPr>
          <a:xfrm>
            <a:off x="719280" y="6326280"/>
            <a:ext cx="7902360" cy="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正方形/長方形 9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図 8" descr=""/>
          <p:cNvPicPr/>
          <p:nvPr/>
        </p:nvPicPr>
        <p:blipFill>
          <a:blip r:embed="rId6"/>
          <a:stretch/>
        </p:blipFill>
        <p:spPr>
          <a:xfrm>
            <a:off x="2916360" y="3141720"/>
            <a:ext cx="3240000" cy="12002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メイリオ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49080" y="102996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メイリオ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メイリオ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メイリオ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メイリオ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メイリオ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メイリオ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メイリオ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2"/>
          </p:nvPr>
        </p:nvSpPr>
        <p:spPr>
          <a:xfrm>
            <a:off x="6513480" y="6416640"/>
            <a:ext cx="220968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Univers 65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1EA28-18EE-4889-94B9-3848B0CFAD5E}" type="slidenum">
              <a:rPr b="0" lang="en-US" sz="1500" spc="-1" strike="noStrike">
                <a:solidFill>
                  <a:srgbClr val="000000"/>
                </a:solidFill>
                <a:latin typeface="Univers 65 Bold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95280" y="2165040"/>
            <a:ext cx="7848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0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95280" y="3392280"/>
            <a:ext cx="49690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26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995280" y="3922560"/>
            <a:ext cx="49690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26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995280" y="4437000"/>
            <a:ext cx="49690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26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3995280" y="4941720"/>
            <a:ext cx="49690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2600" spc="-1" strike="noStrike">
              <a:solidFill>
                <a:srgbClr val="ffffff"/>
              </a:solidFill>
              <a:latin typeface="メイリオ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58920" y="2557440"/>
            <a:ext cx="6734160" cy="1550880"/>
          </a:xfrm>
          <a:prstGeom prst="rect">
            <a:avLst/>
          </a:prstGeom>
          <a:solidFill>
            <a:srgbClr val="03278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4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136" name="スライド番号プレースホルダー 4"/>
          <p:cNvSpPr/>
          <p:nvPr/>
        </p:nvSpPr>
        <p:spPr>
          <a:xfrm>
            <a:off x="6513480" y="6416640"/>
            <a:ext cx="2209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E70E6-5E5F-4054-ACE8-7112342E891E}" type="slidenum">
              <a:rPr b="0" lang="en-US" sz="1500" spc="-1" strike="noStrike">
                <a:solidFill>
                  <a:srgbClr val="000000"/>
                </a:solidFill>
                <a:latin typeface="Univers 65 Bold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18920" y="176040"/>
            <a:ext cx="6367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26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718920" y="1029960"/>
            <a:ext cx="7848360" cy="38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718920" y="1471680"/>
            <a:ext cx="7848360" cy="45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40" name="スライド番号プレースホルダー 4"/>
          <p:cNvSpPr/>
          <p:nvPr/>
        </p:nvSpPr>
        <p:spPr>
          <a:xfrm>
            <a:off x="6513480" y="6416640"/>
            <a:ext cx="2209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2048D-3D6F-4682-85CE-A58A9A4F801A}" type="slidenum">
              <a:rPr b="0" lang="en-US" sz="1500" spc="-1" strike="noStrike">
                <a:solidFill>
                  <a:srgbClr val="000000"/>
                </a:solidFill>
                <a:latin typeface="Univers 65 Bold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684360" y="1844640"/>
            <a:ext cx="77040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400" spc="-1" strike="noStrike">
                <a:solidFill>
                  <a:srgbClr val="000000"/>
                </a:solidFill>
                <a:latin typeface="メイリオ"/>
              </a:rPr>
              <a:t>ご清聴ありがとうございました</a:t>
            </a:r>
            <a:endParaRPr b="0" lang="en-US" sz="3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42" name="スライド番号プレースホルダー 3"/>
          <p:cNvSpPr/>
          <p:nvPr/>
        </p:nvSpPr>
        <p:spPr>
          <a:xfrm>
            <a:off x="6513480" y="6416640"/>
            <a:ext cx="2209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6D5C6-DDEE-4D83-B7FF-69D43BDC2F86}" type="slidenum">
              <a:rPr b="0" lang="en-US" sz="1500" spc="-1" strike="noStrike">
                <a:solidFill>
                  <a:srgbClr val="000000"/>
                </a:solidFill>
                <a:latin typeface="Univers 65 Bold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9T03:25:54Z</dcterms:created>
  <dc:creator/>
  <dc:description/>
  <dc:language>en-US</dc:language>
  <cp:lastModifiedBy/>
  <cp:lastPrinted>2007-05-18T01:58:30Z</cp:lastPrinted>
  <dcterms:modified xsi:type="dcterms:W3CDTF">2018-01-25T06:06:59Z</dcterms:modified>
  <cp:revision>58</cp:revision>
  <dc:subject/>
  <dc:title>PowerPoint プレゼンテーション</dc:title>
</cp:coreProperties>
</file>