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F011-BBC1-4D18-909F-4FE1D2298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B42B-C80E-4C82-AEE0-A9F1F881DE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A5F7F-9751-45CD-B1C6-05F19B54A18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8191A-7CC7-4741-A2B9-8BF25E8103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31360" y="262080"/>
            <a:ext cx="6704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FCD28-B762-49E0-80AE-66A60A08729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9731D-9058-488F-8B13-F3318705830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EADC1-37C3-4E61-B3F2-E6CE587E08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25201-FC29-486C-BAAB-F8114908232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1AFE2-FD84-4E89-A964-864DA8D9EFF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21712-22FD-4E73-8095-A31A8224A19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8896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6880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8896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6880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7D101-4CA3-4E99-A95F-D2EE7C909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1229-1D4A-4569-9C8D-40E14FFBC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896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880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896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880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2B1C-8ABA-41CD-A035-14E33FFF1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1360" y="262080"/>
            <a:ext cx="6704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890C-B552-4915-B00D-D4906F76F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96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880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96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880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FA7E-9A16-4ECB-8E2C-50EB2DDF85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BF9E-5D94-4D6E-9192-7D66387833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B367B-FEB0-4E62-AE4A-6794EC4599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592A-8C7A-42E0-8AA7-B22AC4B774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4DDC7-7D0B-4EAA-ACE7-7C993A8F87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2EB4-381F-48F9-B0D8-404DEE2DB1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1360" y="262080"/>
            <a:ext cx="6704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7ACA-9F5A-4A4E-A05B-660611D58E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899AE-3666-4A0F-9831-D20BC2BEDC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1FDA-FBAF-4350-8123-03D84F348D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DE1D-BAC1-4860-B344-3EF3B9D3A5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3C96-918E-49E8-9B58-38AA979ACA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A6EB-0533-4F14-B409-F87F2881AF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896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880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896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880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23807-69D2-4FF4-A029-49449109C4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B2D-714D-4E0B-A29E-A3D18EFE2B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C46-9090-4D57-A185-9385B4598D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AF9-F9A0-4CAA-BA39-2FE39720A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8359-A65F-4DE3-978F-C7FCDAB01C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8A1-610D-4ED6-AF57-4F9A047BF0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9C9-FC3F-4B5B-A0AD-54F8F2F080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1360" y="262080"/>
            <a:ext cx="6704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C41-CCB7-43F5-8D97-2B33C07839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EFE-5D1D-4A2E-9133-4651159167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D85-878A-4599-A293-A49A033479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BA2-35D7-4B08-AC52-40CDA91B91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33F-25F3-4ED3-909D-452E331275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0E1-CC1D-49E2-B2B2-00072EE8C0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8896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880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8896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880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462-AD2F-4B16-9C3C-BA8BAF7DBF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D9701-745B-4D71-A0B4-392323454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F444-C2CA-4B57-8C0E-6B78B066E7E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96DFF-95CC-48E0-B2AA-134E8AE9F0C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5C8D2-AE93-48BA-B602-0B592F70827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60E7B-04F9-4F50-8012-9B10C604D4B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EB5B0-6B3B-4DA0-B0CD-DDB39EA6FB8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1360" y="262080"/>
            <a:ext cx="6704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DE51C-76A9-478B-B194-F460D71E7B6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B7FBC-8937-459D-847F-1782DFD503A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F89C7-770E-4095-817F-1C33ECBBA2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422FA-A374-499B-9516-066341992A2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BB33F-E725-4198-8756-0E65A4AD914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19259-74F9-469E-9F79-ACAB72A44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1360" y="262080"/>
            <a:ext cx="6704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E856-E46B-4B82-9291-4BF9C717A6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896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6880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896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6880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54C40-037A-4722-BCC1-23F165C5BAA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25DDB-2248-40BA-A98F-4AB46BBF9D7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7D34D-C4A4-4C99-BEEC-E042E80346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7414C-E8F9-42BF-A888-7CE85B5176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AFEE6-519D-4270-9856-B980C3976C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64BCF-9EAF-400A-A14B-098A799588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1360" y="262080"/>
            <a:ext cx="6704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ED2A8-4897-47A7-8F68-7E9FD909A4B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0C047-C096-47E5-A907-7DA2F9841CE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39729-FBD0-449B-98AF-69CAA46BF82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F5C53-7F40-4316-A967-FBE314A3D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6CE6-F5BC-49D3-8A89-BCF5573272A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C18AF-208E-4B18-9ABF-B9DA77ADFFF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B4C04-89FC-486B-B768-0D751FF570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8896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6880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8896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6880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8FF1F-1CE8-4D0A-A2DF-1113A64A4C1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048D-BC47-4DE1-9217-48D51C3D00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6D96-E3CE-432D-8CFB-589834943A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EDAB-2CA5-465B-94DA-C7ABBB7B80C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205D-3DFF-4C6B-A3C2-53A4B8673C1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C3C8-6B09-49AB-8C50-5822CCC14B6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1360" y="262080"/>
            <a:ext cx="6704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8922-90BF-4D53-B55C-06B5D772610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43F6-E771-4C25-91CC-BBD9F7B7F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95DA-E44E-4DDA-9283-0D6148BC27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B522-1350-4979-93E7-2B8B2A62A6E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8749-122A-4C0B-995D-3791FC120E0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82F3-9A51-455C-BE8B-F1631631F97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1426-63E0-420E-9149-02EC665E9A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8896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6880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8896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6880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1ECC-37CE-4807-B527-0F00C16D603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2693A7-CE09-45A4-8EDC-297D9EBD33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1FAFD-05CB-4729-A6A2-B29C8DD6C9F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9316E-01A1-4FF3-BFDE-ED10D44A514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31863-F1B7-40A0-AE7F-557E75D02F2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4D7D7F-13B5-44FC-BD38-94B670ACD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F681-850C-4298-A42D-97C44E606D0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31360" y="262080"/>
            <a:ext cx="670428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79D877-FC5C-4FC8-9A3E-A87EFD8CF8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C3641C-19A0-45E2-83DC-CD0CBF0B92B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4C39C-79CD-444B-A535-181677CA891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D4209-7E0C-4721-9369-641FA63306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2E1D8A-2A2A-4898-874F-5AEFEEBAD0C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F9754B-6B28-45D3-A2B0-4CF5032B359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EB3492-BB13-4B87-8818-54E9F290BDD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3B241-CEA3-4E7A-BA2F-EC6421CF631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653A7-C289-4D67-A24A-0808A9C3E99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1E0A8-E562-48AC-9BC5-FF5E1CDD3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13480" y="6416640"/>
            <a:ext cx="22096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9213-F14E-4ED9-832A-06CED7588DF1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7" name="直線コネクタ 11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"/>
          <p:cNvPicPr/>
          <p:nvPr/>
        </p:nvPicPr>
        <p:blipFill>
          <a:blip r:embed="rId2"/>
          <a:stretch/>
        </p:blipFill>
        <p:spPr>
          <a:xfrm>
            <a:off x="3635280" y="358920"/>
            <a:ext cx="1944720" cy="73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826920" y="1270080"/>
            <a:ext cx="727416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934920" y="6064200"/>
            <a:ext cx="727416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89" name="直線コネクタ 11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2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2395-62A8-4816-8CBF-52BEABD5C10A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133" name="直線コネクタ 11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3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7448-7CB9-4028-B449-ECD9D7639831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177" name="直線コネクタ 11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図 8" descr=""/>
          <p:cNvPicPr/>
          <p:nvPr/>
        </p:nvPicPr>
        <p:blipFill>
          <a:blip r:embed="rId6"/>
          <a:stretch/>
        </p:blipFill>
        <p:spPr>
          <a:xfrm>
            <a:off x="2916360" y="3141720"/>
            <a:ext cx="3240000" cy="1200240"/>
          </a:xfrm>
          <a:prstGeom prst="rect">
            <a:avLst/>
          </a:prstGeom>
          <a:ln w="0">
            <a:noFill/>
          </a:ln>
        </p:spPr>
      </p:pic>
      <p:sp>
        <p:nvSpPr>
          <p:cNvPr id="179" name="テキスト ボックス 13"/>
          <p:cNvSpPr/>
          <p:nvPr/>
        </p:nvSpPr>
        <p:spPr>
          <a:xfrm>
            <a:off x="250920" y="1052640"/>
            <a:ext cx="87138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テキスト ボックス 14"/>
          <p:cNvSpPr/>
          <p:nvPr/>
        </p:nvSpPr>
        <p:spPr>
          <a:xfrm>
            <a:off x="468360" y="223920"/>
            <a:ext cx="820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4"/>
          </p:nvPr>
        </p:nvSpPr>
        <p:spPr>
          <a:xfrm>
            <a:off x="6513480" y="6416640"/>
            <a:ext cx="22096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EC93-FCAB-4272-AAEF-29CDA29FD446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224" name="直線コネクタ 11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5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D45A-7F7C-427C-B5B5-67D964A5FA77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268" name="直線コネクタ 11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6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783C-A504-4894-8751-FFA9E52E7C4E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312" name="直線コネクタ 11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7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B99C-CD54-4C1B-B9D5-328A3C06D759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356" name="直線コネクタ 11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531360" y="262080"/>
            <a:ext cx="6704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8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D488-CF7A-4CD7-B2F4-C5F79638D53E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0920" y="2244240"/>
            <a:ext cx="7848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835280" y="3218040"/>
            <a:ext cx="547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835280" y="3835440"/>
            <a:ext cx="547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835280" y="4430880"/>
            <a:ext cx="547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839600" y="5027760"/>
            <a:ext cx="546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スライド番号プレースホルダー 4"/>
          <p:cNvSpPr/>
          <p:nvPr/>
        </p:nvSpPr>
        <p:spPr>
          <a:xfrm>
            <a:off x="6405480" y="6434280"/>
            <a:ext cx="221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2F12-DB68-422B-9C1D-3FD8EF1565F1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1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58560" y="2420640"/>
            <a:ext cx="676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93760"/>
            <a:ext cx="6488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09480" y="1252440"/>
            <a:ext cx="79250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09480" y="1719360"/>
            <a:ext cx="7925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6" name="スライド番号プレースホルダー 4"/>
          <p:cNvSpPr/>
          <p:nvPr/>
        </p:nvSpPr>
        <p:spPr>
          <a:xfrm>
            <a:off x="6405480" y="6434280"/>
            <a:ext cx="221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913D-D534-4065-A00D-B585622F73DC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684360" y="184464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メイリオ"/>
              </a:rPr>
              <a:t>ご清聴ありがとうございました</a:t>
            </a:r>
            <a:endParaRPr b="0" lang="en-US" sz="3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8" name="スライド番号プレースホルダー 1"/>
          <p:cNvSpPr/>
          <p:nvPr/>
        </p:nvSpPr>
        <p:spPr>
          <a:xfrm>
            <a:off x="6405480" y="6434280"/>
            <a:ext cx="221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AE92-A734-4718-BB17-60AFD739E526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03:46:32Z</dcterms:created>
  <dc:creator/>
  <dc:description/>
  <dc:language>en-US</dc:language>
  <cp:lastModifiedBy/>
  <cp:lastPrinted>2007-05-28T05:20:24Z</cp:lastPrinted>
  <dcterms:modified xsi:type="dcterms:W3CDTF">2018-01-23T04:03:34Z</dcterms:modified>
  <cp:revision>66</cp:revision>
  <dc:subject/>
  <dc:title>PowerPoint プレゼンテーション</dc:title>
</cp:coreProperties>
</file>