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D7E3-121E-412B-BF2F-5B5218B94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7916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18920" y="3635640"/>
            <a:ext cx="7916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E6A7-12E3-42F5-BACE-03B53B77E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5760" y="1128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18920" y="3635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5760" y="3635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88B5-05D8-44D1-804A-509F109DB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5520" y="11282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2120" y="11282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18920" y="36356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5520" y="36356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2120" y="36356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D5DC-9A3A-494F-A3B9-53C9C19D2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8920" y="1128240"/>
            <a:ext cx="7916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7916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5760" y="1128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8920" y="190440"/>
            <a:ext cx="6367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5760" y="1128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8920" y="3635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18920" y="1128240"/>
            <a:ext cx="7916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2E21-4664-4685-96A5-FD8E4FB6F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5760" y="1128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5760" y="3635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5760" y="1128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8920" y="3635640"/>
            <a:ext cx="7916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7916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8920" y="3635640"/>
            <a:ext cx="7916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5760" y="1128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8920" y="3635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5760" y="3635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95520" y="11282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2120" y="11282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8920" y="36356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95520" y="36356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2120" y="36356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C2E47-D1DE-4230-8B99-0A851B7CB6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18920" y="1128240"/>
            <a:ext cx="7916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7762-B533-4B1B-AEDE-C93BCF1784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7916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1F054-A25A-487B-9827-EE99436CC9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75760" y="1128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0476-125E-4A11-A2C2-0DD04AF6CC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E1E2-D00C-4EEE-8696-DB702FA56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7916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9C4D-D8F4-41E1-8CE7-0E455A4482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18920" y="190440"/>
            <a:ext cx="6367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1DBFE-5F53-496C-B98F-D0C58B2414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75760" y="1128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18920" y="3635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36813-5EEE-4122-92F3-4627B0F2E0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75760" y="1128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75760" y="3635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50F11-7B60-4686-A65D-A92DD6F5A5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75760" y="1128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18920" y="3635640"/>
            <a:ext cx="7916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3B633-3ABC-4CF1-BB90-CAC0B81C3D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7916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18920" y="3635640"/>
            <a:ext cx="7916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91C9-8F2B-47EA-B02D-C09E35EE92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75760" y="1128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18920" y="3635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75760" y="3635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AC946-B79F-47B5-B629-D12ABBFF13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95520" y="11282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2120" y="11282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18920" y="36356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95520" y="36356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2120" y="36356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27D4-529A-4627-96DC-38203615E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5760" y="1128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3A87-6462-4255-B5AB-243CD184E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2281-451E-4D37-9687-C0EE5EE9A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8920" y="190440"/>
            <a:ext cx="6367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7F4E-78EE-405B-93C5-09F2C037E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5760" y="1128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18920" y="3635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6CD3-6C57-4841-88B7-214286D55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5760" y="1128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5760" y="3635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9E4E-0351-4D8C-B66B-1EE4F16E3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18920" y="1128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5760" y="1128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18920" y="3635640"/>
            <a:ext cx="7916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008F-FDF6-45F8-8E0B-6B31CE3AF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"/>
          <p:cNvPicPr/>
          <p:nvPr/>
        </p:nvPicPr>
        <p:blipFill>
          <a:blip r:embed="rId2"/>
          <a:stretch/>
        </p:blipFill>
        <p:spPr>
          <a:xfrm>
            <a:off x="7843680" y="150840"/>
            <a:ext cx="755640" cy="576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9" descr="&#9;全和b.jpg                                                      0001394F_x0004_HD60                           C28A1E02:"/>
          <p:cNvPicPr/>
          <p:nvPr/>
        </p:nvPicPr>
        <p:blipFill>
          <a:blip r:embed="rId3"/>
          <a:srcRect l="0" t="92042" r="0" b="0"/>
          <a:stretch/>
        </p:blipFill>
        <p:spPr>
          <a:xfrm>
            <a:off x="0" y="6313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18920" y="1128240"/>
            <a:ext cx="7916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13480" y="6431040"/>
            <a:ext cx="2209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9589-445B-440D-9A63-B08CA7D6FFA2}" type="slidenum">
              <a:rPr b="0" lang="en-US" sz="1500" spc="-1" strike="noStrike">
                <a:solidFill>
                  <a:srgbClr val="ffffff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2" descr=""/>
          <p:cNvPicPr/>
          <p:nvPr/>
        </p:nvPicPr>
        <p:blipFill>
          <a:blip r:embed="rId4"/>
          <a:stretch/>
        </p:blipFill>
        <p:spPr>
          <a:xfrm>
            <a:off x="3219480" y="6510240"/>
            <a:ext cx="288936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44" descr=""/>
          <p:cNvPicPr/>
          <p:nvPr/>
        </p:nvPicPr>
        <p:blipFill>
          <a:blip r:embed="rId5"/>
          <a:srcRect l="0" t="0" r="0" b="21393"/>
          <a:stretch/>
        </p:blipFill>
        <p:spPr>
          <a:xfrm>
            <a:off x="0" y="6431040"/>
            <a:ext cx="2620800" cy="426960"/>
          </a:xfrm>
          <a:prstGeom prst="rect">
            <a:avLst/>
          </a:prstGeom>
          <a:ln w="0">
            <a:noFill/>
          </a:ln>
        </p:spPr>
      </p:pic>
      <p:sp>
        <p:nvSpPr>
          <p:cNvPr id="7" name="直線コネクタ 8"/>
          <p:cNvSpPr/>
          <p:nvPr/>
        </p:nvSpPr>
        <p:spPr>
          <a:xfrm>
            <a:off x="719280" y="826920"/>
            <a:ext cx="7902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6" descr="&#9;全和a.jpg                                                      0001394F_x0004_HD60                           C28A1E02:"/>
          <p:cNvPicPr/>
          <p:nvPr/>
        </p:nvPicPr>
        <p:blipFill>
          <a:blip r:embed="rId2"/>
          <a:srcRect l="0" t="22115" r="13043" b="11386"/>
          <a:stretch/>
        </p:blipFill>
        <p:spPr>
          <a:xfrm>
            <a:off x="0" y="1052640"/>
            <a:ext cx="9144000" cy="526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468360" y="212760"/>
            <a:ext cx="3311640" cy="649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8920" y="1128240"/>
            <a:ext cx="7916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"/>
          <p:cNvPicPr/>
          <p:nvPr/>
        </p:nvPicPr>
        <p:blipFill>
          <a:blip r:embed="rId2"/>
          <a:stretch/>
        </p:blipFill>
        <p:spPr>
          <a:xfrm>
            <a:off x="7843680" y="150840"/>
            <a:ext cx="755640" cy="576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9" descr="&#9;全和b.jpg                                                      0001394F_x0004_HD60                           C28A1E02:"/>
          <p:cNvPicPr/>
          <p:nvPr/>
        </p:nvPicPr>
        <p:blipFill>
          <a:blip r:embed="rId3"/>
          <a:srcRect l="0" t="92042" r="0" b="0"/>
          <a:stretch/>
        </p:blipFill>
        <p:spPr>
          <a:xfrm>
            <a:off x="0" y="6313320"/>
            <a:ext cx="9145440" cy="546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2" descr=""/>
          <p:cNvPicPr/>
          <p:nvPr/>
        </p:nvPicPr>
        <p:blipFill>
          <a:blip r:embed="rId4"/>
          <a:stretch/>
        </p:blipFill>
        <p:spPr>
          <a:xfrm>
            <a:off x="3219480" y="6510240"/>
            <a:ext cx="2889360" cy="152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4" descr=""/>
          <p:cNvPicPr/>
          <p:nvPr/>
        </p:nvPicPr>
        <p:blipFill>
          <a:blip r:embed="rId5"/>
          <a:srcRect l="0" t="0" r="0" b="21393"/>
          <a:stretch/>
        </p:blipFill>
        <p:spPr>
          <a:xfrm>
            <a:off x="0" y="6431040"/>
            <a:ext cx="2620800" cy="426960"/>
          </a:xfrm>
          <a:prstGeom prst="rect">
            <a:avLst/>
          </a:prstGeom>
          <a:ln w="0">
            <a:noFill/>
          </a:ln>
        </p:spPr>
      </p:pic>
      <p:sp>
        <p:nvSpPr>
          <p:cNvPr id="88" name="直線コネクタ 8"/>
          <p:cNvSpPr/>
          <p:nvPr/>
        </p:nvSpPr>
        <p:spPr>
          <a:xfrm>
            <a:off x="719280" y="826920"/>
            <a:ext cx="7902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250920" y="1052640"/>
            <a:ext cx="87138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テキスト ボックス 11"/>
          <p:cNvSpPr/>
          <p:nvPr/>
        </p:nvSpPr>
        <p:spPr>
          <a:xfrm>
            <a:off x="324000" y="189000"/>
            <a:ext cx="856908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図 10" descr=""/>
          <p:cNvPicPr/>
          <p:nvPr/>
        </p:nvPicPr>
        <p:blipFill>
          <a:blip r:embed="rId6"/>
          <a:stretch/>
        </p:blipFill>
        <p:spPr>
          <a:xfrm>
            <a:off x="3249720" y="2887560"/>
            <a:ext cx="2716200" cy="1440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18920" y="1128240"/>
            <a:ext cx="7916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2"/>
          </p:nvPr>
        </p:nvSpPr>
        <p:spPr>
          <a:xfrm>
            <a:off x="6513480" y="6431040"/>
            <a:ext cx="2209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E08C-45BB-421B-886E-E3EED798CCA0}" type="slidenum">
              <a:rPr b="0" lang="en-US" sz="1500" spc="-1" strike="noStrike">
                <a:solidFill>
                  <a:srgbClr val="ffffff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2320" y="2276280"/>
            <a:ext cx="8221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67280" y="4365360"/>
            <a:ext cx="4752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5000"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067280" y="4890960"/>
            <a:ext cx="4752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5000"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75200" y="5416200"/>
            <a:ext cx="4744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075200" y="3822480"/>
            <a:ext cx="4744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ffffff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スライド番号プレースホルダー 1"/>
          <p:cNvSpPr/>
          <p:nvPr/>
        </p:nvSpPr>
        <p:spPr>
          <a:xfrm>
            <a:off x="6513480" y="6431040"/>
            <a:ext cx="2209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6B60-3D64-4930-8369-3B1E7B957149}" type="slidenum">
              <a:rPr b="0" lang="en-US" sz="1500" spc="-1" strike="noStrike">
                <a:solidFill>
                  <a:srgbClr val="ffffff"/>
                </a:solidFill>
                <a:latin typeface="Univers 65 Bold"/>
              </a:rPr>
              <a:t>1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21960" y="2565360"/>
            <a:ext cx="7466040" cy="1478160"/>
          </a:xfrm>
          <a:prstGeom prst="rect">
            <a:avLst/>
          </a:prstGeom>
          <a:solidFill>
            <a:srgbClr val="03278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400" spc="-1" strike="noStrike">
              <a:solidFill>
                <a:srgbClr val="ffffff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8920" y="190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18920" y="1294920"/>
            <a:ext cx="7916760" cy="4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18920" y="1844640"/>
            <a:ext cx="79167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1" name="スライド番号プレースホルダー 4"/>
          <p:cNvSpPr/>
          <p:nvPr/>
        </p:nvSpPr>
        <p:spPr>
          <a:xfrm>
            <a:off x="6513480" y="6431040"/>
            <a:ext cx="2209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7B7B-CB92-41DD-A0CC-7D8140B28BAF}" type="slidenum">
              <a:rPr b="0" lang="en-US" sz="1500" spc="-1" strike="noStrike">
                <a:solidFill>
                  <a:srgbClr val="ffffff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4360" y="178452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メイリオ"/>
              </a:rPr>
              <a:t>ご清聴ありがとうございました</a:t>
            </a:r>
            <a:endParaRPr b="0" lang="en-US" sz="3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3" name="スライド番号プレースホルダー 2"/>
          <p:cNvSpPr/>
          <p:nvPr/>
        </p:nvSpPr>
        <p:spPr>
          <a:xfrm>
            <a:off x="6513480" y="6431040"/>
            <a:ext cx="2209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7B7E-C5FF-4218-AA7D-9AA8D36B0209}" type="slidenum">
              <a:rPr b="0" lang="en-US" sz="1500" spc="-1" strike="noStrike">
                <a:solidFill>
                  <a:srgbClr val="ffffff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03:25:54Z</dcterms:created>
  <dc:creator/>
  <dc:description/>
  <dc:language>en-US</dc:language>
  <cp:lastModifiedBy/>
  <cp:lastPrinted>2007-05-18T01:58:30Z</cp:lastPrinted>
  <dcterms:modified xsi:type="dcterms:W3CDTF">2018-01-23T04:45:39Z</dcterms:modified>
  <cp:revision>72</cp:revision>
  <dc:subject/>
  <dc:title>PowerPoint プレゼンテーション</dc:title>
</cp:coreProperties>
</file>