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75F5F-55CD-4FF1-9EB9-C3E8C0B4AD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69972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BE3F4-1CD5-4A9D-B86C-EFE26DD80BF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0280" y="127152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02B8B9-0BCA-4594-B0D2-0CC0E970B13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CBBFA8-665C-4B2D-8D85-87E559E902E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531360" y="266760"/>
            <a:ext cx="6488280" cy="25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8B6700-CA2E-41B4-BC53-8802D8AF93A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0280" y="127152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9480" y="36997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A0AAF2-6907-4A7B-B213-D30515505AC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02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0280" y="36997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B8FE3E-B565-43A5-94C1-C31040D92E3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9480" y="369972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007AA0-7BAC-43BC-9E32-118D47502AB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09480" y="369972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8EAA16-9AA6-42B0-9DA9-09C15630E1C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6997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0280" y="36997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8C9339-9491-44B4-A185-A2F63B1C186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88960" y="12715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968800" y="12715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609480" y="36997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88960" y="36997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5968800" y="36997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D1D066-8036-4316-85EC-4B3A1693938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6EE25-8CFC-41D3-A133-44A66AF87E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02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6997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0280" y="36997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B4B30-685A-4994-9A87-1B21632B19C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09480" y="127152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E6C51-4E1B-455F-B05F-F116EE25F61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1D2D3-120B-48EC-86C6-FD588106B0E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0280" y="127152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7740F-219C-427B-BA35-1CEDCB392CC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20483-C845-4E45-98CB-3C69FF42A12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531360" y="266760"/>
            <a:ext cx="6488280" cy="25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F7A94-5A9F-4CF0-ACE1-7BE643E7542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0280" y="127152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9480" y="36997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6BEDD-B5B0-4F6E-A744-7E846CC7493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0280" y="36997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30756-2E66-4ABC-AD14-53B72565F4A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9480" y="369972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0F5DF-D776-4D6C-A4BA-DE28B493DA8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09480" y="369972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26DFD-3EB5-46C7-B4F7-0AE55CEF625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02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9480" y="36997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0280" y="36997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C6222-BE11-46FC-BBE5-DDDC58922C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88960" y="12715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8800" y="12715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6997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88960" y="36997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8800" y="36997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543BD-D0F6-4C50-8528-AF4B786521B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88960" y="12715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68800" y="12715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09480" y="36997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88960" y="36997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5968800" y="36997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4AB92-9738-4D78-B48E-BF0FF1E2BCB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4CBA49-3CB7-4794-8713-B0990CAB2E8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09480" y="127152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C6F380-0739-441B-825A-1CE8916AD65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BBDA4C-F4DC-4589-A89B-CDB23440787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27152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2B54E3-7439-4EE0-AD00-166C7EAD790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B27FC4-8003-4B26-A991-69B050624A1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531360" y="266760"/>
            <a:ext cx="6488280" cy="25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8599C3-A064-4344-97D2-1AB54DC2FEE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27152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480" y="36997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EE99FD-7393-4C6F-ABAA-952AB6F4AB7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36997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C8FA8A-FF77-4673-9865-277D2630450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9480" y="369972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D61BFA-81E4-4395-B602-9121EBC0DC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09480" y="369972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0E2997-15E2-4C34-AF1B-2F4C55BF9B4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9480" y="36997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36997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0050E1-91AA-4F45-BED7-9D763DEC90C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88960" y="12715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8800" y="12715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09480" y="36997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88960" y="36997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8800" y="36997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FF4F0F-EE2A-45A3-AFF4-F51D9C9FAAF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41780F-24E8-4FDF-A76D-0502CECB8F8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609480" y="127152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6F9EBC-8C33-4224-9E8F-D947A8D0C5D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62C549-A043-4DA7-A39A-B2EEAE10EBB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0280" y="127152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085A8B-3165-4724-B633-39ABD4CEA79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1A7136-87BC-4490-B80E-2524168E5D8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531360" y="266760"/>
            <a:ext cx="6488280" cy="25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D70257-E191-4C6B-B3C8-96B81384B2F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27152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9480" y="36997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D7CDD0-B152-4F3D-9FBB-7023275CDB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09480" y="127152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0280" y="36997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A16E48-1D47-4E2D-9635-3644B1D27E4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02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9480" y="369972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55A36D-64BF-45AF-8BC1-53490CF67D1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09480" y="369972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BA567F-F6DD-42B9-9B07-C699AB43069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02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9480" y="36997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0280" y="36997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B5A33F-9847-4954-850E-61A9D4610C5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88960" y="12715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968800" y="12715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609480" y="36997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88960" y="36997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5968800" y="36997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B920D5-A89A-4E9C-95FE-7EC3D8DADD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27152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31360" y="266760"/>
            <a:ext cx="6488280" cy="25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27152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480" y="36997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27152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FFF03-9963-44C9-8D20-131927D015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36997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69972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9480" y="369972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480" y="36997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36997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88960" y="12715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8800" y="12715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09480" y="36997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88960" y="36997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8800" y="36997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B1164-5971-4350-8E7D-1FA5DC49B53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09480" y="127152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ABE50-0443-45D9-B126-83A167F64C6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E0C2E-8A6C-4BC2-8154-23320229B03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27152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D74D2-80E0-406B-89F2-D92B36720A4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998EE-0357-4043-AAD7-5B550225EA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3C802-158B-4336-837F-EB44749221D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531360" y="266760"/>
            <a:ext cx="6488280" cy="25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AE95D-928B-4FCB-9BCD-379EF4235BE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27152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9480" y="36997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E1D4F-6040-45C1-B3A0-68EF91A065E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0280" y="36997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66752-DDD2-4690-B418-90041D31157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02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369972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B76A3-CAEC-48F3-90DC-7F5A7A7F22C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09480" y="369972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B3CDD-D266-4A6F-ACAE-477962B3C4D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6997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0280" y="36997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2DA12-496C-40BB-8781-2BBB0944E0F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88960" y="12715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68800" y="12715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09480" y="36997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88960" y="36997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68800" y="36997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8CB5A-3E73-4472-82A9-9DC77AF3604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3B8F-8776-4765-9A2D-8B540DCF3D1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09480" y="127152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E04A-841C-4155-9597-5E732584069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54B8-BE49-433B-88E2-65A71503B3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0280" y="127152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90A18-9470-4E9D-A75E-F36520DBAF2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27152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D11B-9F68-4861-B811-EA1C68AD103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1105-52DE-44A6-B336-B156A44F485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531360" y="266760"/>
            <a:ext cx="6488280" cy="25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48C9-B37B-4482-832B-0E47F123E1E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27152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480" y="36997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EC41-0CE2-4441-ADE9-A893A019046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0280" y="36997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9CC8-CA36-4E18-8ADD-0935674DBE8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02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9480" y="369972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80AF-23AA-4F38-86B9-E69F8FE470F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09480" y="369972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59AA-4949-4AC3-9269-328CB717A08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02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9480" y="36997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0280" y="36997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F3E6-0492-4B69-8B81-42DD05CAA1F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88960" y="12715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68800" y="12715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09480" y="36997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88960" y="36997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68800" y="36997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BB15-9EEC-497C-AA04-21C63520FF4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C3774B-9932-41C3-A1BB-F99E3908C8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A2487-2D63-4B1E-8D48-AEBFC8D8594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09480" y="127152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30500-E6B3-47D5-8F1D-7AF1B750D25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45CDD0-54F1-4C7C-B444-6C80353BE67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0280" y="127152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F5DF6D-C508-4B82-BDE5-F27BB9E2623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13DF34-8993-440E-B4C5-02E084705C4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531360" y="266760"/>
            <a:ext cx="6488280" cy="25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F49581-C053-40E2-87EE-6471759EE46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0280" y="127152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9480" y="36997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168CB-B793-4756-8EA0-39F0159700A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0280" y="36997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DF9D00-6D3F-4DF4-A1B7-4E709BAF5FA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02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9480" y="369972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BAE35C-7354-4466-AEB9-9333744F269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09480" y="369972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B08FC-D711-4E9A-87EE-2C0DD98AADF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02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9480" y="36997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0280" y="36997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DAF510-917F-46BA-BB2F-AC50328069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1360" y="266760"/>
            <a:ext cx="6488280" cy="25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E0381-6369-4328-BCB6-781D1D52CB1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88960" y="12715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68800" y="12715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09480" y="36997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88960" y="36997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68800" y="36997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03CCEA-41A6-4931-80D8-7A623F2C62E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243E6-F4FE-4B1C-BBF4-D8943DFB73E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09480" y="127152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E9A4D3-B450-4DDB-B9D6-EAE511384E6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4487C-51E0-494D-ACE5-B13D612B34E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0280" y="127152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D2FD0-A57C-4B82-BB2E-6F20C845BF5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B223C-1A55-4DEA-B2D0-9CDBCE259A3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531360" y="266760"/>
            <a:ext cx="6488280" cy="25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6FAC5-1355-40E1-9F2C-A888C49BA7C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27152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6997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8A31D8-CD20-4823-9149-D4758122EDD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02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0280" y="36997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9CF71-7DAF-45F2-BBAB-7E15ADEC9C2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02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9480" y="369972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ED269C-2484-42EA-A11D-F00970A1D3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0280" y="127152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997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A8FAB-E1DB-496C-B16B-789197E1325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09480" y="369972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F97FBD-4AC8-429E-9D5B-41B626D1315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02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9480" y="36997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0280" y="36997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D81F0B-156E-40F4-9883-A49790FFFE6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88960" y="12715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68800" y="12715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09480" y="36997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88960" y="36997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68800" y="36997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5F08CF-F849-4DA3-8379-4EAD26994B5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1522-C09C-4946-BB08-8FDED464926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09480" y="127152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8011-A66E-4F62-B8FF-6A6D6170053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B907-7098-40D6-AB1A-54A6AE96993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27152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FC68-6F4B-4B95-A5BD-F2F2B49CA69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935B-BF9A-4C34-AD67-029C926E1A2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531360" y="266760"/>
            <a:ext cx="6488280" cy="25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0A2AF-F9A7-48A8-B5F4-152E2F9FBFF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0280" y="127152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9480" y="36997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392A-7C82-4FA2-A21A-3A0D0D85D7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02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0280" y="36997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C8F1A-64A7-47D4-984D-3B5537634E7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02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0280" y="36997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B412-0FF5-40D8-AF29-6ABAF711DB1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02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480" y="369972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24D8-71D5-450A-BB0B-8614B53F58C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09480" y="369972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F65D0-8660-4866-BDC2-BA83AAEE7DD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02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9480" y="36997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0280" y="36997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BDFC1-9169-4C69-AC47-5ABC64303EB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88960" y="12715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968800" y="12715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09480" y="36997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88960" y="36997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5968800" y="36997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6FC5B-465B-4C66-BF9C-D64D836C5B7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786140-A121-497B-B734-5774105E440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609480" y="127152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8EB9BC-99B9-4512-8757-3F0B1B8D97B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E6CC6C-3E05-4B08-9627-036341E0099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0280" y="127152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163D51-3DB0-402C-ACAF-D4DCE59002F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F78AA8-50A2-4AA8-8ACE-75D92FAFB3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02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9972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5DC75-F89C-4B5D-8ABA-F23A0211CA4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531360" y="266760"/>
            <a:ext cx="6488280" cy="25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81B66B-D7FE-4707-803C-2CEA4D3F3D8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0280" y="127152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9480" y="36997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92D660-D4C8-4CF7-98A1-75A46F6F040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02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0280" y="36997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12BAEE-9553-436E-B566-80CE8CD12F0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02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9480" y="369972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87F5FB-6F5E-49CA-B5E2-310EEF16DAD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09480" y="369972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2FAEAB-CB75-470E-A564-3B9FF45E32F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0280" y="12715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9480" y="36997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0280" y="369972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EF01DE-7BF2-41EF-B47B-C0AA3A42306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88960" y="12715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968800" y="12715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609480" y="36997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88960" y="36997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968800" y="369972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525752-8AFE-49DB-9072-5E9386161E6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2C8C94-FB66-40A4-B301-1D411015E03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609480" y="127152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CA9B1F-3066-4671-89FF-F09B5B02DA7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09480" y="127152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1DB384-FA25-4505-AE49-01BD03E3C5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_x0008_cbw2.jpg                                                       0001394F_x0004_HD60                           C28A1E02:"/>
          <p:cNvPicPr/>
          <p:nvPr/>
        </p:nvPicPr>
        <p:blipFill>
          <a:blip r:embed="rId2"/>
          <a:srcRect l="0" t="4850" r="0" b="81507"/>
          <a:stretch/>
        </p:blipFill>
        <p:spPr>
          <a:xfrm>
            <a:off x="0" y="11160"/>
            <a:ext cx="9145440" cy="936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09480" y="127152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メイリオ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メイリオ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pic>
        <p:nvPicPr>
          <p:cNvPr id="3" name="Picture 9" descr=""/>
          <p:cNvPicPr/>
          <p:nvPr/>
        </p:nvPicPr>
        <p:blipFill>
          <a:blip r:embed="rId3"/>
          <a:stretch/>
        </p:blipFill>
        <p:spPr>
          <a:xfrm>
            <a:off x="7667640" y="160200"/>
            <a:ext cx="755640" cy="576360"/>
          </a:xfrm>
          <a:prstGeom prst="rect">
            <a:avLst/>
          </a:prstGeom>
          <a:ln w="0">
            <a:noFill/>
          </a:ln>
        </p:spPr>
      </p:pic>
      <p:pic>
        <p:nvPicPr>
          <p:cNvPr id="4" name="Picture 31" descr=""/>
          <p:cNvPicPr/>
          <p:nvPr/>
        </p:nvPicPr>
        <p:blipFill>
          <a:blip r:embed="rId4"/>
          <a:srcRect l="0" t="0" r="0" b="46396"/>
          <a:stretch/>
        </p:blipFill>
        <p:spPr>
          <a:xfrm>
            <a:off x="0" y="6426360"/>
            <a:ext cx="2451240" cy="2714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36" descr=""/>
          <p:cNvPicPr/>
          <p:nvPr/>
        </p:nvPicPr>
        <p:blipFill>
          <a:blip r:embed="rId5"/>
          <a:stretch/>
        </p:blipFill>
        <p:spPr>
          <a:xfrm>
            <a:off x="3219480" y="6534000"/>
            <a:ext cx="2889360" cy="152640"/>
          </a:xfrm>
          <a:prstGeom prst="rect">
            <a:avLst/>
          </a:prstGeom>
          <a:ln w="0">
            <a:noFill/>
          </a:ln>
        </p:spPr>
      </p:pic>
      <p:sp>
        <p:nvSpPr>
          <p:cNvPr id="6" name="直線コネクタ 12"/>
          <p:cNvSpPr/>
          <p:nvPr/>
        </p:nvSpPr>
        <p:spPr>
          <a:xfrm>
            <a:off x="719280" y="6326280"/>
            <a:ext cx="7902360" cy="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465960" y="6426360"/>
            <a:ext cx="220968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Univers 65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03AB-81D3-45D8-A5E9-54D83E815D9F}" type="slidenum">
              <a:rPr b="0" lang="en-US" sz="1500" spc="-1" strike="noStrike">
                <a:solidFill>
                  <a:srgbClr val="000000"/>
                </a:solidFill>
                <a:latin typeface="Univers 65 Bold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4" descr="_x0008_cbw2.jpg                                                       0001394F_x0004_HD60                           C28A1E02:"/>
          <p:cNvPicPr/>
          <p:nvPr/>
        </p:nvPicPr>
        <p:blipFill>
          <a:blip r:embed="rId2"/>
          <a:srcRect l="0" t="4850" r="0" b="81507"/>
          <a:stretch/>
        </p:blipFill>
        <p:spPr>
          <a:xfrm>
            <a:off x="0" y="11160"/>
            <a:ext cx="9145440" cy="9367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9" descr=""/>
          <p:cNvPicPr/>
          <p:nvPr/>
        </p:nvPicPr>
        <p:blipFill>
          <a:blip r:embed="rId3"/>
          <a:stretch/>
        </p:blipFill>
        <p:spPr>
          <a:xfrm>
            <a:off x="7667640" y="160200"/>
            <a:ext cx="755640" cy="5763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1" descr=""/>
          <p:cNvPicPr/>
          <p:nvPr/>
        </p:nvPicPr>
        <p:blipFill>
          <a:blip r:embed="rId4"/>
          <a:srcRect l="0" t="0" r="0" b="46396"/>
          <a:stretch/>
        </p:blipFill>
        <p:spPr>
          <a:xfrm>
            <a:off x="0" y="6426360"/>
            <a:ext cx="2451240" cy="2714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6" descr=""/>
          <p:cNvPicPr/>
          <p:nvPr/>
        </p:nvPicPr>
        <p:blipFill>
          <a:blip r:embed="rId5"/>
          <a:stretch/>
        </p:blipFill>
        <p:spPr>
          <a:xfrm>
            <a:off x="3219480" y="6534000"/>
            <a:ext cx="2889360" cy="152640"/>
          </a:xfrm>
          <a:prstGeom prst="rect">
            <a:avLst/>
          </a:prstGeom>
          <a:ln w="0">
            <a:noFill/>
          </a:ln>
        </p:spPr>
      </p:pic>
      <p:sp>
        <p:nvSpPr>
          <p:cNvPr id="399" name="直線コネクタ 12"/>
          <p:cNvSpPr/>
          <p:nvPr/>
        </p:nvSpPr>
        <p:spPr>
          <a:xfrm>
            <a:off x="719280" y="6326280"/>
            <a:ext cx="7902360" cy="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609480" y="127152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メイリオ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メイリオ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9"/>
          </p:nvPr>
        </p:nvSpPr>
        <p:spPr>
          <a:xfrm>
            <a:off x="6405120" y="6453360"/>
            <a:ext cx="221004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Univers 65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95D8-890D-4227-B591-E3C1A3EEB3FC}" type="slidenum">
              <a:rPr b="0" lang="en-US" sz="1500" spc="-1" strike="noStrike">
                <a:solidFill>
                  <a:srgbClr val="000000"/>
                </a:solidFill>
                <a:latin typeface="Univers 65 Bold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4" descr="_x0008_cbw2.jpg                                                       0001394F_x0004_HD60                           C28A1E02:"/>
          <p:cNvPicPr/>
          <p:nvPr/>
        </p:nvPicPr>
        <p:blipFill>
          <a:blip r:embed="rId2"/>
          <a:srcRect l="0" t="4850" r="0" b="81507"/>
          <a:stretch/>
        </p:blipFill>
        <p:spPr>
          <a:xfrm>
            <a:off x="0" y="11160"/>
            <a:ext cx="9145440" cy="9367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9" descr=""/>
          <p:cNvPicPr/>
          <p:nvPr/>
        </p:nvPicPr>
        <p:blipFill>
          <a:blip r:embed="rId3"/>
          <a:stretch/>
        </p:blipFill>
        <p:spPr>
          <a:xfrm>
            <a:off x="7667640" y="160200"/>
            <a:ext cx="755640" cy="5763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31" descr=""/>
          <p:cNvPicPr/>
          <p:nvPr/>
        </p:nvPicPr>
        <p:blipFill>
          <a:blip r:embed="rId4"/>
          <a:srcRect l="0" t="0" r="0" b="46396"/>
          <a:stretch/>
        </p:blipFill>
        <p:spPr>
          <a:xfrm>
            <a:off x="0" y="6426360"/>
            <a:ext cx="2451240" cy="2714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36" descr=""/>
          <p:cNvPicPr/>
          <p:nvPr/>
        </p:nvPicPr>
        <p:blipFill>
          <a:blip r:embed="rId5"/>
          <a:stretch/>
        </p:blipFill>
        <p:spPr>
          <a:xfrm>
            <a:off x="3219480" y="6534000"/>
            <a:ext cx="2889360" cy="152640"/>
          </a:xfrm>
          <a:prstGeom prst="rect">
            <a:avLst/>
          </a:prstGeom>
          <a:ln w="0">
            <a:noFill/>
          </a:ln>
        </p:spPr>
      </p:pic>
      <p:sp>
        <p:nvSpPr>
          <p:cNvPr id="443" name="直線コネクタ 12"/>
          <p:cNvSpPr/>
          <p:nvPr/>
        </p:nvSpPr>
        <p:spPr>
          <a:xfrm>
            <a:off x="719280" y="6326280"/>
            <a:ext cx="7902360" cy="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609480" y="127152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メイリオ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メイリオ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10"/>
          </p:nvPr>
        </p:nvSpPr>
        <p:spPr>
          <a:xfrm>
            <a:off x="6405120" y="6453360"/>
            <a:ext cx="221004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Univers 65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2388-428F-43DB-AC8E-A7D2CC03E63B}" type="slidenum">
              <a:rPr b="0" lang="en-US" sz="1500" spc="-1" strike="noStrike">
                <a:solidFill>
                  <a:srgbClr val="000000"/>
                </a:solidFill>
                <a:latin typeface="Univers 65 Bold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4" descr="_x0008_cbw2.jpg                                                       0001394F_x0004_HD60                           C28A1E02:"/>
          <p:cNvPicPr/>
          <p:nvPr/>
        </p:nvPicPr>
        <p:blipFill>
          <a:blip r:embed="rId2"/>
          <a:srcRect l="0" t="4850" r="0" b="81507"/>
          <a:stretch/>
        </p:blipFill>
        <p:spPr>
          <a:xfrm>
            <a:off x="0" y="11160"/>
            <a:ext cx="9145440" cy="9367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667640" y="160200"/>
            <a:ext cx="755640" cy="5763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31" descr=""/>
          <p:cNvPicPr/>
          <p:nvPr/>
        </p:nvPicPr>
        <p:blipFill>
          <a:blip r:embed="rId4"/>
          <a:srcRect l="0" t="0" r="0" b="46396"/>
          <a:stretch/>
        </p:blipFill>
        <p:spPr>
          <a:xfrm>
            <a:off x="0" y="6426360"/>
            <a:ext cx="2451240" cy="27144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36" descr=""/>
          <p:cNvPicPr/>
          <p:nvPr/>
        </p:nvPicPr>
        <p:blipFill>
          <a:blip r:embed="rId5"/>
          <a:stretch/>
        </p:blipFill>
        <p:spPr>
          <a:xfrm>
            <a:off x="3219480" y="6534000"/>
            <a:ext cx="2889360" cy="152640"/>
          </a:xfrm>
          <a:prstGeom prst="rect">
            <a:avLst/>
          </a:prstGeom>
          <a:ln w="0">
            <a:noFill/>
          </a:ln>
        </p:spPr>
      </p:pic>
      <p:sp>
        <p:nvSpPr>
          <p:cNvPr id="487" name="直線コネクタ 12"/>
          <p:cNvSpPr/>
          <p:nvPr/>
        </p:nvSpPr>
        <p:spPr>
          <a:xfrm>
            <a:off x="719280" y="6326280"/>
            <a:ext cx="7902360" cy="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body"/>
          </p:nvPr>
        </p:nvSpPr>
        <p:spPr>
          <a:xfrm>
            <a:off x="609480" y="127152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メイリオ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メイリオ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11"/>
          </p:nvPr>
        </p:nvSpPr>
        <p:spPr>
          <a:xfrm>
            <a:off x="6405120" y="6453360"/>
            <a:ext cx="221004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Univers 65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BEE5-1A8E-45FA-9AD9-834285F006A2}" type="slidenum">
              <a:rPr b="0" lang="en-US" sz="1500" spc="-1" strike="noStrike">
                <a:solidFill>
                  <a:srgbClr val="000000"/>
                </a:solidFill>
                <a:latin typeface="Univers 65 Bold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826920" y="1270080"/>
            <a:ext cx="7274160" cy="45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934920" y="6064200"/>
            <a:ext cx="727416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"/>
          <p:cNvPicPr/>
          <p:nvPr/>
        </p:nvPicPr>
        <p:blipFill>
          <a:blip r:embed="rId4"/>
          <a:stretch/>
        </p:blipFill>
        <p:spPr>
          <a:xfrm>
            <a:off x="3419640" y="173160"/>
            <a:ext cx="2304720" cy="1203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609480" y="127152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メイリオ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メイリオ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4" descr="_x0008_cbw2.jpg                                                       0001394F_x0004_HD60                           C28A1E02:"/>
          <p:cNvPicPr/>
          <p:nvPr/>
        </p:nvPicPr>
        <p:blipFill>
          <a:blip r:embed="rId2"/>
          <a:srcRect l="0" t="4850" r="0" b="81507"/>
          <a:stretch/>
        </p:blipFill>
        <p:spPr>
          <a:xfrm>
            <a:off x="0" y="11160"/>
            <a:ext cx="9145440" cy="936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3"/>
          <a:stretch/>
        </p:blipFill>
        <p:spPr>
          <a:xfrm>
            <a:off x="7667640" y="160200"/>
            <a:ext cx="755640" cy="576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1" descr=""/>
          <p:cNvPicPr/>
          <p:nvPr/>
        </p:nvPicPr>
        <p:blipFill>
          <a:blip r:embed="rId4"/>
          <a:srcRect l="0" t="0" r="0" b="46396"/>
          <a:stretch/>
        </p:blipFill>
        <p:spPr>
          <a:xfrm>
            <a:off x="0" y="6426360"/>
            <a:ext cx="2451240" cy="271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6" descr=""/>
          <p:cNvPicPr/>
          <p:nvPr/>
        </p:nvPicPr>
        <p:blipFill>
          <a:blip r:embed="rId5"/>
          <a:stretch/>
        </p:blipFill>
        <p:spPr>
          <a:xfrm>
            <a:off x="3219480" y="6534000"/>
            <a:ext cx="2889360" cy="152640"/>
          </a:xfrm>
          <a:prstGeom prst="rect">
            <a:avLst/>
          </a:prstGeom>
          <a:ln w="0">
            <a:noFill/>
          </a:ln>
        </p:spPr>
      </p:pic>
      <p:sp>
        <p:nvSpPr>
          <p:cNvPr id="89" name="直線コネクタ 12"/>
          <p:cNvSpPr/>
          <p:nvPr/>
        </p:nvSpPr>
        <p:spPr>
          <a:xfrm>
            <a:off x="719280" y="6326280"/>
            <a:ext cx="7902360" cy="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09480" y="127152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メイリオ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メイリオ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2"/>
          </p:nvPr>
        </p:nvSpPr>
        <p:spPr>
          <a:xfrm>
            <a:off x="6405120" y="6453360"/>
            <a:ext cx="221004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Univers 65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1649-8381-4CDC-B3EB-1AC8C4B084F7}" type="slidenum">
              <a:rPr b="0" lang="en-US" sz="1500" spc="-1" strike="noStrike">
                <a:solidFill>
                  <a:srgbClr val="000000"/>
                </a:solidFill>
                <a:latin typeface="Univers 65 Bold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4" descr="_x0008_cbw2.jpg                                                       0001394F_x0004_HD60                           C28A1E02:"/>
          <p:cNvPicPr/>
          <p:nvPr/>
        </p:nvPicPr>
        <p:blipFill>
          <a:blip r:embed="rId2"/>
          <a:srcRect l="0" t="4850" r="0" b="81507"/>
          <a:stretch/>
        </p:blipFill>
        <p:spPr>
          <a:xfrm>
            <a:off x="0" y="11160"/>
            <a:ext cx="9145440" cy="936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"/>
          <p:cNvPicPr/>
          <p:nvPr/>
        </p:nvPicPr>
        <p:blipFill>
          <a:blip r:embed="rId3"/>
          <a:stretch/>
        </p:blipFill>
        <p:spPr>
          <a:xfrm>
            <a:off x="7667640" y="160200"/>
            <a:ext cx="755640" cy="576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1" descr=""/>
          <p:cNvPicPr/>
          <p:nvPr/>
        </p:nvPicPr>
        <p:blipFill>
          <a:blip r:embed="rId4"/>
          <a:srcRect l="0" t="0" r="0" b="46396"/>
          <a:stretch/>
        </p:blipFill>
        <p:spPr>
          <a:xfrm>
            <a:off x="0" y="6426360"/>
            <a:ext cx="2451240" cy="27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6" descr=""/>
          <p:cNvPicPr/>
          <p:nvPr/>
        </p:nvPicPr>
        <p:blipFill>
          <a:blip r:embed="rId5"/>
          <a:stretch/>
        </p:blipFill>
        <p:spPr>
          <a:xfrm>
            <a:off x="3219480" y="6534000"/>
            <a:ext cx="2889360" cy="152640"/>
          </a:xfrm>
          <a:prstGeom prst="rect">
            <a:avLst/>
          </a:prstGeom>
          <a:ln w="0">
            <a:noFill/>
          </a:ln>
        </p:spPr>
      </p:pic>
      <p:sp>
        <p:nvSpPr>
          <p:cNvPr id="133" name="直線コネクタ 12"/>
          <p:cNvSpPr/>
          <p:nvPr/>
        </p:nvSpPr>
        <p:spPr>
          <a:xfrm>
            <a:off x="719280" y="6326280"/>
            <a:ext cx="7902360" cy="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09480" y="127152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メイリオ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メイリオ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3"/>
          </p:nvPr>
        </p:nvSpPr>
        <p:spPr>
          <a:xfrm>
            <a:off x="6405120" y="6453360"/>
            <a:ext cx="221004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Univers 65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9CF6-6C29-4EE2-9B1D-1C2974829F74}" type="slidenum">
              <a:rPr b="0" lang="en-US" sz="1500" spc="-1" strike="noStrike">
                <a:solidFill>
                  <a:srgbClr val="000000"/>
                </a:solidFill>
                <a:latin typeface="Univers 65 Bold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4" descr="_x0008_cbw2.jpg                                                       0001394F_x0004_HD60                           C28A1E02:"/>
          <p:cNvPicPr/>
          <p:nvPr/>
        </p:nvPicPr>
        <p:blipFill>
          <a:blip r:embed="rId2"/>
          <a:srcRect l="0" t="4850" r="0" b="81507"/>
          <a:stretch/>
        </p:blipFill>
        <p:spPr>
          <a:xfrm>
            <a:off x="0" y="11160"/>
            <a:ext cx="9145440" cy="936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"/>
          <p:cNvPicPr/>
          <p:nvPr/>
        </p:nvPicPr>
        <p:blipFill>
          <a:blip r:embed="rId3"/>
          <a:stretch/>
        </p:blipFill>
        <p:spPr>
          <a:xfrm>
            <a:off x="7667640" y="160200"/>
            <a:ext cx="755640" cy="576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1" descr=""/>
          <p:cNvPicPr/>
          <p:nvPr/>
        </p:nvPicPr>
        <p:blipFill>
          <a:blip r:embed="rId4"/>
          <a:srcRect l="0" t="0" r="0" b="46396"/>
          <a:stretch/>
        </p:blipFill>
        <p:spPr>
          <a:xfrm>
            <a:off x="0" y="6426360"/>
            <a:ext cx="2451240" cy="271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6" descr=""/>
          <p:cNvPicPr/>
          <p:nvPr/>
        </p:nvPicPr>
        <p:blipFill>
          <a:blip r:embed="rId5"/>
          <a:stretch/>
        </p:blipFill>
        <p:spPr>
          <a:xfrm>
            <a:off x="3219480" y="6534000"/>
            <a:ext cx="2889360" cy="152640"/>
          </a:xfrm>
          <a:prstGeom prst="rect">
            <a:avLst/>
          </a:prstGeom>
          <a:ln w="0">
            <a:noFill/>
          </a:ln>
        </p:spPr>
      </p:pic>
      <p:sp>
        <p:nvSpPr>
          <p:cNvPr id="177" name="直線コネクタ 12"/>
          <p:cNvSpPr/>
          <p:nvPr/>
        </p:nvSpPr>
        <p:spPr>
          <a:xfrm>
            <a:off x="719280" y="6326280"/>
            <a:ext cx="7902360" cy="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609480" y="127152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メイリオ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メイリオ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Num" idx="4"/>
          </p:nvPr>
        </p:nvSpPr>
        <p:spPr>
          <a:xfrm>
            <a:off x="6405120" y="6453360"/>
            <a:ext cx="221004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Univers 65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22CE-5977-48E3-A772-729842126779}" type="slidenum">
              <a:rPr b="0" lang="en-US" sz="1500" spc="-1" strike="noStrike">
                <a:solidFill>
                  <a:srgbClr val="000000"/>
                </a:solidFill>
                <a:latin typeface="Univers 65 Bold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4" descr="_x0008_cbw2.jpg                                                       0001394F_x0004_HD60                           C28A1E02:"/>
          <p:cNvPicPr/>
          <p:nvPr/>
        </p:nvPicPr>
        <p:blipFill>
          <a:blip r:embed="rId2"/>
          <a:srcRect l="0" t="4850" r="0" b="81507"/>
          <a:stretch/>
        </p:blipFill>
        <p:spPr>
          <a:xfrm>
            <a:off x="0" y="11160"/>
            <a:ext cx="9145440" cy="9367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"/>
          <p:cNvPicPr/>
          <p:nvPr/>
        </p:nvPicPr>
        <p:blipFill>
          <a:blip r:embed="rId3"/>
          <a:stretch/>
        </p:blipFill>
        <p:spPr>
          <a:xfrm>
            <a:off x="7667640" y="160200"/>
            <a:ext cx="755640" cy="576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1" descr=""/>
          <p:cNvPicPr/>
          <p:nvPr/>
        </p:nvPicPr>
        <p:blipFill>
          <a:blip r:embed="rId4"/>
          <a:srcRect l="0" t="0" r="0" b="46396"/>
          <a:stretch/>
        </p:blipFill>
        <p:spPr>
          <a:xfrm>
            <a:off x="0" y="6426360"/>
            <a:ext cx="2451240" cy="271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6" descr=""/>
          <p:cNvPicPr/>
          <p:nvPr/>
        </p:nvPicPr>
        <p:blipFill>
          <a:blip r:embed="rId5"/>
          <a:stretch/>
        </p:blipFill>
        <p:spPr>
          <a:xfrm>
            <a:off x="3219480" y="6534000"/>
            <a:ext cx="2889360" cy="152640"/>
          </a:xfrm>
          <a:prstGeom prst="rect">
            <a:avLst/>
          </a:prstGeom>
          <a:ln w="0">
            <a:noFill/>
          </a:ln>
        </p:spPr>
      </p:pic>
      <p:sp>
        <p:nvSpPr>
          <p:cNvPr id="221" name="直線コネクタ 12"/>
          <p:cNvSpPr/>
          <p:nvPr/>
        </p:nvSpPr>
        <p:spPr>
          <a:xfrm>
            <a:off x="719280" y="6326280"/>
            <a:ext cx="7902360" cy="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609480" y="127152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メイリオ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メイリオ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5"/>
          </p:nvPr>
        </p:nvSpPr>
        <p:spPr>
          <a:xfrm>
            <a:off x="6405120" y="6453360"/>
            <a:ext cx="221004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Univers 65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5DF5-199A-46E9-955A-44984D4783CD}" type="slidenum">
              <a:rPr b="0" lang="en-US" sz="1500" spc="-1" strike="noStrike">
                <a:solidFill>
                  <a:srgbClr val="000000"/>
                </a:solidFill>
                <a:latin typeface="Univers 65 Bold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4" descr="_x0008_cbw2.jpg                                                       0001394F_x0004_HD60                           C28A1E02:"/>
          <p:cNvPicPr/>
          <p:nvPr/>
        </p:nvPicPr>
        <p:blipFill>
          <a:blip r:embed="rId2"/>
          <a:srcRect l="0" t="4850" r="0" b="81507"/>
          <a:stretch/>
        </p:blipFill>
        <p:spPr>
          <a:xfrm>
            <a:off x="0" y="11160"/>
            <a:ext cx="9145440" cy="9367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"/>
          <p:cNvPicPr/>
          <p:nvPr/>
        </p:nvPicPr>
        <p:blipFill>
          <a:blip r:embed="rId3"/>
          <a:stretch/>
        </p:blipFill>
        <p:spPr>
          <a:xfrm>
            <a:off x="7667640" y="160200"/>
            <a:ext cx="755640" cy="5763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1" descr=""/>
          <p:cNvPicPr/>
          <p:nvPr/>
        </p:nvPicPr>
        <p:blipFill>
          <a:blip r:embed="rId4"/>
          <a:srcRect l="0" t="0" r="0" b="46396"/>
          <a:stretch/>
        </p:blipFill>
        <p:spPr>
          <a:xfrm>
            <a:off x="0" y="6426360"/>
            <a:ext cx="2451240" cy="2714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6" descr=""/>
          <p:cNvPicPr/>
          <p:nvPr/>
        </p:nvPicPr>
        <p:blipFill>
          <a:blip r:embed="rId5"/>
          <a:stretch/>
        </p:blipFill>
        <p:spPr>
          <a:xfrm>
            <a:off x="3219480" y="6534000"/>
            <a:ext cx="2889360" cy="152640"/>
          </a:xfrm>
          <a:prstGeom prst="rect">
            <a:avLst/>
          </a:prstGeom>
          <a:ln w="0">
            <a:noFill/>
          </a:ln>
        </p:spPr>
      </p:pic>
      <p:sp>
        <p:nvSpPr>
          <p:cNvPr id="265" name="直線コネクタ 12"/>
          <p:cNvSpPr/>
          <p:nvPr/>
        </p:nvSpPr>
        <p:spPr>
          <a:xfrm>
            <a:off x="719280" y="6326280"/>
            <a:ext cx="7902360" cy="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609480" y="127152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メイリオ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メイリオ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Num" idx="6"/>
          </p:nvPr>
        </p:nvSpPr>
        <p:spPr>
          <a:xfrm>
            <a:off x="6405120" y="6453360"/>
            <a:ext cx="221004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Univers 65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A69A-C72F-4671-9624-3BDC41C589CA}" type="slidenum">
              <a:rPr b="0" lang="en-US" sz="1500" spc="-1" strike="noStrike">
                <a:solidFill>
                  <a:srgbClr val="000000"/>
                </a:solidFill>
                <a:latin typeface="Univers 65 Bold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4" descr="_x0008_cbw2.jpg                                                       0001394F_x0004_HD60                           C28A1E02:"/>
          <p:cNvPicPr/>
          <p:nvPr/>
        </p:nvPicPr>
        <p:blipFill>
          <a:blip r:embed="rId2"/>
          <a:srcRect l="0" t="4850" r="0" b="81507"/>
          <a:stretch/>
        </p:blipFill>
        <p:spPr>
          <a:xfrm>
            <a:off x="0" y="11160"/>
            <a:ext cx="9145440" cy="9367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9" descr=""/>
          <p:cNvPicPr/>
          <p:nvPr/>
        </p:nvPicPr>
        <p:blipFill>
          <a:blip r:embed="rId3"/>
          <a:stretch/>
        </p:blipFill>
        <p:spPr>
          <a:xfrm>
            <a:off x="7667640" y="160200"/>
            <a:ext cx="755640" cy="5763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1" descr=""/>
          <p:cNvPicPr/>
          <p:nvPr/>
        </p:nvPicPr>
        <p:blipFill>
          <a:blip r:embed="rId4"/>
          <a:srcRect l="0" t="0" r="0" b="46396"/>
          <a:stretch/>
        </p:blipFill>
        <p:spPr>
          <a:xfrm>
            <a:off x="0" y="6426360"/>
            <a:ext cx="2451240" cy="2714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6" descr=""/>
          <p:cNvPicPr/>
          <p:nvPr/>
        </p:nvPicPr>
        <p:blipFill>
          <a:blip r:embed="rId5"/>
          <a:stretch/>
        </p:blipFill>
        <p:spPr>
          <a:xfrm>
            <a:off x="3219480" y="6534000"/>
            <a:ext cx="2889360" cy="152640"/>
          </a:xfrm>
          <a:prstGeom prst="rect">
            <a:avLst/>
          </a:prstGeom>
          <a:ln w="0">
            <a:noFill/>
          </a:ln>
        </p:spPr>
      </p:pic>
      <p:sp>
        <p:nvSpPr>
          <p:cNvPr id="309" name="直線コネクタ 12"/>
          <p:cNvSpPr/>
          <p:nvPr/>
        </p:nvSpPr>
        <p:spPr>
          <a:xfrm>
            <a:off x="719280" y="6326280"/>
            <a:ext cx="7902360" cy="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図 10" descr=""/>
          <p:cNvPicPr/>
          <p:nvPr/>
        </p:nvPicPr>
        <p:blipFill>
          <a:blip r:embed="rId6"/>
          <a:stretch/>
        </p:blipFill>
        <p:spPr>
          <a:xfrm>
            <a:off x="3249720" y="2932200"/>
            <a:ext cx="2716200" cy="1439640"/>
          </a:xfrm>
          <a:prstGeom prst="rect">
            <a:avLst/>
          </a:prstGeom>
          <a:ln w="0">
            <a:noFill/>
          </a:ln>
        </p:spPr>
      </p:pic>
      <p:sp>
        <p:nvSpPr>
          <p:cNvPr id="311" name="テキスト ボックス 13"/>
          <p:cNvSpPr/>
          <p:nvPr/>
        </p:nvSpPr>
        <p:spPr>
          <a:xfrm>
            <a:off x="468360" y="101520"/>
            <a:ext cx="8497800" cy="87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609480" y="127152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メイリオ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メイリオ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7"/>
          </p:nvPr>
        </p:nvSpPr>
        <p:spPr>
          <a:xfrm>
            <a:off x="6405120" y="6453360"/>
            <a:ext cx="221004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Univers 65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B509-A43E-4622-A4CE-529D8AD37633}" type="slidenum">
              <a:rPr b="0" lang="en-US" sz="1500" spc="-1" strike="noStrike">
                <a:solidFill>
                  <a:srgbClr val="000000"/>
                </a:solidFill>
                <a:latin typeface="Univers 65 Bold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4" descr="_x0008_cbw2.jpg                                                       0001394F_x0004_HD60                           C28A1E02:"/>
          <p:cNvPicPr/>
          <p:nvPr/>
        </p:nvPicPr>
        <p:blipFill>
          <a:blip r:embed="rId2"/>
          <a:srcRect l="0" t="4850" r="0" b="81507"/>
          <a:stretch/>
        </p:blipFill>
        <p:spPr>
          <a:xfrm>
            <a:off x="0" y="11160"/>
            <a:ext cx="9145440" cy="9367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9" descr=""/>
          <p:cNvPicPr/>
          <p:nvPr/>
        </p:nvPicPr>
        <p:blipFill>
          <a:blip r:embed="rId3"/>
          <a:stretch/>
        </p:blipFill>
        <p:spPr>
          <a:xfrm>
            <a:off x="7667640" y="160200"/>
            <a:ext cx="755640" cy="5763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1" descr=""/>
          <p:cNvPicPr/>
          <p:nvPr/>
        </p:nvPicPr>
        <p:blipFill>
          <a:blip r:embed="rId4"/>
          <a:srcRect l="0" t="0" r="0" b="46396"/>
          <a:stretch/>
        </p:blipFill>
        <p:spPr>
          <a:xfrm>
            <a:off x="0" y="6426360"/>
            <a:ext cx="2451240" cy="2714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6" descr=""/>
          <p:cNvPicPr/>
          <p:nvPr/>
        </p:nvPicPr>
        <p:blipFill>
          <a:blip r:embed="rId5"/>
          <a:stretch/>
        </p:blipFill>
        <p:spPr>
          <a:xfrm>
            <a:off x="3219480" y="6534000"/>
            <a:ext cx="2889360" cy="152640"/>
          </a:xfrm>
          <a:prstGeom prst="rect">
            <a:avLst/>
          </a:prstGeom>
          <a:ln w="0">
            <a:noFill/>
          </a:ln>
        </p:spPr>
      </p:pic>
      <p:sp>
        <p:nvSpPr>
          <p:cNvPr id="355" name="直線コネクタ 12"/>
          <p:cNvSpPr/>
          <p:nvPr/>
        </p:nvSpPr>
        <p:spPr>
          <a:xfrm>
            <a:off x="719280" y="6326280"/>
            <a:ext cx="7902360" cy="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body"/>
          </p:nvPr>
        </p:nvSpPr>
        <p:spPr>
          <a:xfrm>
            <a:off x="609480" y="127152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メイリオ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メイリオ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8"/>
          </p:nvPr>
        </p:nvSpPr>
        <p:spPr>
          <a:xfrm>
            <a:off x="6405120" y="6453360"/>
            <a:ext cx="221004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Univers 65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744D-6417-4D8F-B451-FB4F8249E574}" type="slidenum">
              <a:rPr b="0" lang="en-US" sz="1500" spc="-1" strike="noStrike">
                <a:solidFill>
                  <a:srgbClr val="000000"/>
                </a:solidFill>
                <a:latin typeface="Univers 65 Bold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10920" y="2347920"/>
            <a:ext cx="7777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800000" y="3341160"/>
            <a:ext cx="55083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1800000" y="3938760"/>
            <a:ext cx="5508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1800000" y="4533840"/>
            <a:ext cx="5508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1800000" y="5130360"/>
            <a:ext cx="55083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6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58560" y="2491920"/>
            <a:ext cx="6769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33" name="スライド番号プレースホルダー 3"/>
          <p:cNvSpPr/>
          <p:nvPr/>
        </p:nvSpPr>
        <p:spPr>
          <a:xfrm>
            <a:off x="6405480" y="6453360"/>
            <a:ext cx="22100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161F-2E59-479C-87EF-BEA97E05542A}" type="slidenum">
              <a:rPr b="0" lang="en-US" sz="1500" spc="-1" strike="noStrike">
                <a:solidFill>
                  <a:srgbClr val="000000"/>
                </a:solidFill>
                <a:latin typeface="Univers 65 Bold"/>
                <a:ea typeface="Osaka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1360" y="266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609480" y="1289160"/>
            <a:ext cx="7925040" cy="3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609480" y="1755360"/>
            <a:ext cx="7925040" cy="41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37" name="スライド番号プレースホルダー 3"/>
          <p:cNvSpPr/>
          <p:nvPr/>
        </p:nvSpPr>
        <p:spPr>
          <a:xfrm>
            <a:off x="6405480" y="6453360"/>
            <a:ext cx="22100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089D-A55D-4752-96B0-FD71CE4E7BF7}" type="slidenum">
              <a:rPr b="0" lang="en-US" sz="1500" spc="-1" strike="noStrike">
                <a:solidFill>
                  <a:srgbClr val="000000"/>
                </a:solidFill>
                <a:latin typeface="Univers 65 Bold"/>
                <a:ea typeface="Osaka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684360" y="1844640"/>
            <a:ext cx="7704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400" spc="-1" strike="noStrike">
                <a:solidFill>
                  <a:srgbClr val="000000"/>
                </a:solidFill>
                <a:latin typeface="メイリオ"/>
              </a:rPr>
              <a:t>ご清聴ありがとうございました</a:t>
            </a:r>
            <a:endParaRPr b="0" lang="en-US" sz="3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39" name="スライド番号プレースホルダー 3"/>
          <p:cNvSpPr/>
          <p:nvPr/>
        </p:nvSpPr>
        <p:spPr>
          <a:xfrm>
            <a:off x="6405480" y="6453360"/>
            <a:ext cx="22100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A30A-781C-4936-9FEC-02CA8AE54A63}" type="slidenum">
              <a:rPr b="0" lang="en-US" sz="1500" spc="-1" strike="noStrike">
                <a:solidFill>
                  <a:srgbClr val="000000"/>
                </a:solidFill>
                <a:latin typeface="Univers 65 Bold"/>
                <a:ea typeface="Osaka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9T03:46:32Z</dcterms:created>
  <dc:creator/>
  <dc:description/>
  <dc:language>en-US</dc:language>
  <cp:lastModifiedBy/>
  <cp:lastPrinted>2007-05-28T05:20:53Z</cp:lastPrinted>
  <dcterms:modified xsi:type="dcterms:W3CDTF">2018-01-23T04:17:55Z</dcterms:modified>
  <cp:revision>49</cp:revision>
  <dc:subject/>
  <dc:title>PowerPoint プレゼンテーション</dc:title>
</cp:coreProperties>
</file>